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 id="301" r:id="rId68"/>
    <p:sldId id="302" r:id="rId69"/>
    <p:sldId id="303" r:id="rId70"/>
    <p:sldId id="304" r:id="rId71"/>
    <p:sldId id="305" r:id="rId72"/>
    <p:sldId id="306" r:id="rId73"/>
    <p:sldId id="307" r:id="rId74"/>
    <p:sldId id="308" r:id="rId75"/>
    <p:sldId id="309" r:id="rId76"/>
    <p:sldId id="310" r:id="rId77"/>
    <p:sldId id="311" r:id="rId78"/>
    <p:sldId id="312" r:id="rId79"/>
    <p:sldId id="313" r:id="rId80"/>
    <p:sldId id="314" r:id="rId81"/>
    <p:sldId id="315" r:id="rId82"/>
    <p:sldId id="316" r:id="rId83"/>
    <p:sldId id="317" r:id="rId84"/>
    <p:sldId id="318" r:id="rId85"/>
    <p:sldId id="319" r:id="rId86"/>
    <p:sldId id="320"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slide" Target="slides/slide46.xml"/><Relationship Id="rId69" Type="http://schemas.openxmlformats.org/officeDocument/2006/relationships/slide" Target="slides/slide47.xml"/><Relationship Id="rId70" Type="http://schemas.openxmlformats.org/officeDocument/2006/relationships/slide" Target="slides/slide48.xml"/><Relationship Id="rId71" Type="http://schemas.openxmlformats.org/officeDocument/2006/relationships/slide" Target="slides/slide49.xml"/><Relationship Id="rId72" Type="http://schemas.openxmlformats.org/officeDocument/2006/relationships/slide" Target="slides/slide50.xml"/><Relationship Id="rId73" Type="http://schemas.openxmlformats.org/officeDocument/2006/relationships/slide" Target="slides/slide51.xml"/><Relationship Id="rId74" Type="http://schemas.openxmlformats.org/officeDocument/2006/relationships/slide" Target="slides/slide52.xml"/><Relationship Id="rId75" Type="http://schemas.openxmlformats.org/officeDocument/2006/relationships/slide" Target="slides/slide53.xml"/><Relationship Id="rId76" Type="http://schemas.openxmlformats.org/officeDocument/2006/relationships/slide" Target="slides/slide54.xml"/><Relationship Id="rId77" Type="http://schemas.openxmlformats.org/officeDocument/2006/relationships/slide" Target="slides/slide55.xml"/><Relationship Id="rId78" Type="http://schemas.openxmlformats.org/officeDocument/2006/relationships/slide" Target="slides/slide56.xml"/><Relationship Id="rId79" Type="http://schemas.openxmlformats.org/officeDocument/2006/relationships/slide" Target="slides/slide57.xml"/><Relationship Id="rId80" Type="http://schemas.openxmlformats.org/officeDocument/2006/relationships/slide" Target="slides/slide58.xml"/><Relationship Id="rId81" Type="http://schemas.openxmlformats.org/officeDocument/2006/relationships/slide" Target="slides/slide59.xml"/><Relationship Id="rId82" Type="http://schemas.openxmlformats.org/officeDocument/2006/relationships/slide" Target="slides/slide60.xml"/><Relationship Id="rId83" Type="http://schemas.openxmlformats.org/officeDocument/2006/relationships/slide" Target="slides/slide61.xml"/><Relationship Id="rId84" Type="http://schemas.openxmlformats.org/officeDocument/2006/relationships/slide" Target="slides/slide62.xml"/><Relationship Id="rId85" Type="http://schemas.openxmlformats.org/officeDocument/2006/relationships/slide" Target="slides/slide63.xml"/><Relationship Id="rId86" Type="http://schemas.openxmlformats.org/officeDocument/2006/relationships/slide" Target="slides/slide64.xml"/><Relationship Id="rId87" Type="http://schemas.openxmlformats.org/officeDocument/2006/relationships/slide" Target="slides/slide65.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8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8" name="PlaceHolder 2"/>
          <p:cNvSpPr>
            <a:spLocks noGrp="1"/>
          </p:cNvSpPr>
          <p:nvPr>
            <p:ph type="dt" idx="4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8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1" name="PlaceHolder 5"/>
          <p:cNvSpPr>
            <a:spLocks noGrp="1"/>
          </p:cNvSpPr>
          <p:nvPr>
            <p:ph type="ftr" idx="5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2" name="PlaceHolder 6"/>
          <p:cNvSpPr>
            <a:spLocks noGrp="1"/>
          </p:cNvSpPr>
          <p:nvPr>
            <p:ph type="sldNum" idx="51"/>
          </p:nvPr>
        </p:nvSpPr>
        <p:spPr>
          <a:xfrm>
            <a:off x="388440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addell lists 19 studies, dating from 1996 – 2003, that have reviewed risk factors for chronicity. He summarises the literature and concludes that predictors of chronicity can be considered under two headings: clinical &amp; psychosocial, sociodemographi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addell G Burton AK Main CJ </a:t>
            </a:r>
            <a:r>
              <a:rPr b="0" i="1" lang="en-GB" sz="1200" spc="-1" strike="noStrike">
                <a:solidFill>
                  <a:srgbClr val="000000"/>
                </a:solidFill>
                <a:latin typeface="Calibri"/>
              </a:rPr>
              <a:t>Screening to identify people at risk of long-term incapacity for work: a conceptual and scientific review</a:t>
            </a:r>
            <a:r>
              <a:rPr b="0" lang="en-GB" sz="1200" spc="-1" strike="noStrike">
                <a:solidFill>
                  <a:srgbClr val="000000"/>
                </a:solidFill>
                <a:latin typeface="Calibri"/>
              </a:rPr>
              <a:t> 2003 Royal society of Medicine Press London</a:t>
            </a:r>
            <a:endParaRPr b="0" lang="en-US" sz="1200" spc="-1" strike="noStrike">
              <a:solidFill>
                <a:srgbClr val="000000"/>
              </a:solidFill>
              <a:latin typeface="Calibri"/>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1560" y="830160"/>
            <a:ext cx="4367160" cy="3275280"/>
          </a:xfrm>
          <a:prstGeom prst="rect">
            <a:avLst/>
          </a:prstGeom>
          <a:ln w="0">
            <a:noFill/>
          </a:ln>
        </p:spPr>
      </p:sp>
      <p:sp>
        <p:nvSpPr>
          <p:cNvPr id="1020"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s contrasts the broad differences in the treatment of acute and chronic pain. Chronic pain treatment involves an interdisciplinary and comprehensive rehabilitation approach. Care is designed and coordinated to address all the dimensions of the patient</a:t>
            </a:r>
            <a:r>
              <a:rPr b="0" lang="ja-JP" sz="1200" spc="-1" strike="noStrike">
                <a:solidFill>
                  <a:srgbClr val="000000"/>
                </a:solidFill>
                <a:latin typeface="Arial"/>
              </a:rPr>
              <a:t>’</a:t>
            </a:r>
            <a:r>
              <a:rPr b="0" lang="en-US" sz="1200" spc="-1" strike="noStrike">
                <a:solidFill>
                  <a:srgbClr val="000000"/>
                </a:solidFill>
                <a:latin typeface="Calibri"/>
              </a:rPr>
              <a:t>s condition. Successful treatment requires active patient and sometimes family participation.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1560" y="830160"/>
            <a:ext cx="4367160" cy="3275280"/>
          </a:xfrm>
          <a:prstGeom prst="rect">
            <a:avLst/>
          </a:prstGeom>
          <a:ln w="0">
            <a:noFill/>
          </a:ln>
        </p:spPr>
      </p:sp>
      <p:sp>
        <p:nvSpPr>
          <p:cNvPr id="1022"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SAIDs have not been helpful. Superficial heat produce only a few minutes relief at best to her back. Opioids provide minimal relief, even at higher doses. You learn she has a number of risk factors for poor outcomes of chronic opioid therapy including family history of alcoholism, tobacco smoking, history of self escalating the opioid with little improvement in function. She worries her spine will “break” and states only rest helps. She describes sleeping poorly, frustration, anxiety and despondency regarding the difficulty working and risk of losing her job.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1560" y="830160"/>
            <a:ext cx="4367160" cy="3275280"/>
          </a:xfrm>
          <a:prstGeom prst="rect">
            <a:avLst/>
          </a:prstGeom>
          <a:ln w="0">
            <a:noFill/>
          </a:ln>
        </p:spPr>
      </p:sp>
      <p:sp>
        <p:nvSpPr>
          <p:cNvPr id="1024"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analgesic should have a rationale indication. Depending on the type of pain, combinations of analgesics with varying mechanisms of action may be required. Although drug therapy is often required in pain management, nondrug interventions including patient education are just as important for both acute and chronic pain. Reassessment and adjustment of the goal driven treatment plan are essential in all situation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1560" y="830160"/>
            <a:ext cx="4367160" cy="3275280"/>
          </a:xfrm>
          <a:prstGeom prst="rect">
            <a:avLst/>
          </a:prstGeom>
          <a:ln w="0">
            <a:noFill/>
          </a:ln>
        </p:spPr>
      </p:sp>
      <p:sp>
        <p:nvSpPr>
          <p:cNvPr id="1026" name="PlaceHolder 2"/>
          <p:cNvSpPr>
            <a:spLocks noGrp="1"/>
          </p:cNvSpPr>
          <p:nvPr>
            <p:ph type="body"/>
          </p:nvPr>
        </p:nvSpPr>
        <p:spPr>
          <a:xfrm>
            <a:off x="1022040" y="4352400"/>
            <a:ext cx="4755960" cy="4124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ion of opioid analgesics should be based on a diagnosis, risk screening, an interdisciplinary treatment plan with specific goals, and ongoing patient monitoring. While long-acting opioid preparations given around the clock may be useful for select patients, the evidence is accumulating that long-term therapy may negatively influence quality of life and goals of chronic non-cancer pain treatment for some patien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0000"/>
                </a:solidFill>
                <a:latin typeface="Calibri"/>
              </a:rPr>
              <a:t>Eriksen, J., Sjogren, P., Bruera, E., Ekholm, O., &amp; Rasmussen, N. K. (2006). </a:t>
            </a:r>
            <a:r>
              <a:rPr b="0" lang="en-US" sz="1000" spc="-1" strike="noStrike">
                <a:solidFill>
                  <a:srgbClr val="000000"/>
                </a:solidFill>
                <a:latin typeface="Calibri"/>
              </a:rPr>
              <a:t>Critical issues on opioids in chronic non-cancer pain: an epidemiological study. </a:t>
            </a:r>
            <a:r>
              <a:rPr b="0" i="1" lang="en-US" sz="1000" spc="-1" strike="noStrike">
                <a:solidFill>
                  <a:srgbClr val="000000"/>
                </a:solidFill>
                <a:latin typeface="Calibri"/>
              </a:rPr>
              <a:t>Pain, 125</a:t>
            </a:r>
            <a:r>
              <a:rPr b="0" lang="en-US" sz="1000" spc="-1" strike="noStrike">
                <a:solidFill>
                  <a:srgbClr val="000000"/>
                </a:solidFill>
                <a:latin typeface="Calibri"/>
              </a:rPr>
              <a:t>, 172-179. </a:t>
            </a:r>
            <a:endParaRPr b="0" lang="en-US" sz="10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u="sng">
                <a:solidFill>
                  <a:srgbClr val="000000"/>
                </a:solidFill>
                <a:uFillTx/>
                <a:latin typeface="Calibri"/>
              </a:rPr>
              <a:t>Available Guidelines Include:</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uropean Pain Network. </a:t>
            </a:r>
            <a:r>
              <a:rPr b="0" i="1" lang="en-US" sz="1000" spc="-1" strike="noStrike">
                <a:solidFill>
                  <a:srgbClr val="000000"/>
                </a:solidFill>
                <a:latin typeface="Calibri"/>
              </a:rPr>
              <a:t>White paper on opioids and pain: A pan-European challenge</a:t>
            </a:r>
            <a:r>
              <a:rPr b="0" lang="en-US" sz="1000" spc="-1" strike="noStrike">
                <a:solidFill>
                  <a:srgbClr val="000000"/>
                </a:solidFill>
                <a:latin typeface="Calibri"/>
              </a:rPr>
              <a:t>. Retrieved April 23, 2012, http://www.dgss.org/fileadmin/pdf/50616_White_Paper.pdf</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merican Pain Society. Chou, R., Fanciullo, G.J, Fine, P.G., et al. Clinical guidelines for the use of chronic opioid therapy in chronic non-cancer pain. </a:t>
            </a:r>
            <a:r>
              <a:rPr b="0" i="1" lang="en-US" sz="1000" spc="-1" strike="noStrike">
                <a:solidFill>
                  <a:srgbClr val="000000"/>
                </a:solidFill>
                <a:latin typeface="Calibri"/>
              </a:rPr>
              <a:t>The Journal of Pain, 10 </a:t>
            </a:r>
            <a:r>
              <a:rPr b="0" lang="en-US" sz="1000" spc="-1" strike="noStrike">
                <a:solidFill>
                  <a:srgbClr val="000000"/>
                </a:solidFill>
                <a:latin typeface="Calibri"/>
              </a:rPr>
              <a:t>(2), 113-130. </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ahan M, Mailis-Gagnon A, Wilson L, Srivastava A. National Opioid Use Guideline Group. Canadian guideline for safe and effective use of opioids for chronic non-cancer pain: clinical summary for family physicians. Part 1: general population. Can Fam Physician 2011;57(11):1257-1266.</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ahan, M, Wilson L, Mailis-Gagnon A, Srivastava A. National Opioid Use Guidleine Group. Canadian guideline for safe and effective use of opioids for chronic non-cancer pain: clinical summary for family physicians. Part 2: special populations. Can Fam Physiciann 2011;57(11):1269-1276.</a:t>
            </a:r>
            <a:endParaRPr b="0" lang="en-US" sz="10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4440" y="830160"/>
            <a:ext cx="4367520" cy="3275280"/>
          </a:xfrm>
          <a:prstGeom prst="rect">
            <a:avLst/>
          </a:prstGeom>
          <a:ln w="0">
            <a:noFill/>
          </a:ln>
        </p:spPr>
      </p:sp>
      <p:sp>
        <p:nvSpPr>
          <p:cNvPr id="1028" name="PlaceHolder 2"/>
          <p:cNvSpPr>
            <a:spLocks noGrp="1"/>
          </p:cNvSpPr>
          <p:nvPr>
            <p:ph type="body"/>
          </p:nvPr>
        </p:nvSpPr>
        <p:spPr>
          <a:xfrm>
            <a:off x="1069560" y="4354560"/>
            <a:ext cx="4716360" cy="3773520"/>
          </a:xfrm>
          <a:prstGeom prst="rect">
            <a:avLst/>
          </a:prstGeom>
          <a:noFill/>
          <a:ln w="0">
            <a:noFill/>
          </a:ln>
        </p:spPr>
        <p:txBody>
          <a:bodyPr lIns="74880" rIns="74880" tIns="37440" bIns="37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ng-acting scheduled opioid preparations have been recommended for chronic and cancer pain, because they could achieve a steady state, were less likely to produce euphoria and addiction than short-acting opioids. However, this approach is beginning to be questioned due to little evidence for long-term benefi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llantyne JC, LaForge KS. Opioid dependence and addiction during opioid treatment of chronic pain. Pain 2007;129:235-255.</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ancer pain model generally recommends use of long-acting scheduled opioids when pain is constant along with short-acting </a:t>
            </a:r>
            <a:r>
              <a:rPr b="0" lang="ja-JP" sz="1200" spc="-1" strike="noStrike">
                <a:solidFill>
                  <a:srgbClr val="000000"/>
                </a:solidFill>
                <a:latin typeface="Calibri"/>
              </a:rPr>
              <a:t>“</a:t>
            </a:r>
            <a:r>
              <a:rPr b="0" lang="en-US" sz="1200" spc="-1" strike="noStrike">
                <a:solidFill>
                  <a:srgbClr val="000000"/>
                </a:solidFill>
                <a:latin typeface="Calibri"/>
              </a:rPr>
              <a:t>as necessary</a:t>
            </a:r>
            <a:r>
              <a:rPr b="0" lang="ja-JP" sz="1200" spc="-1" strike="noStrike">
                <a:solidFill>
                  <a:srgbClr val="000000"/>
                </a:solidFill>
                <a:latin typeface="Calibri"/>
              </a:rPr>
              <a:t>”</a:t>
            </a:r>
            <a:r>
              <a:rPr b="0" lang="en-US" sz="1200" spc="-1" strike="noStrike">
                <a:solidFill>
                  <a:srgbClr val="000000"/>
                </a:solidFill>
                <a:latin typeface="Calibri"/>
              </a:rPr>
              <a:t> (PRN) or </a:t>
            </a:r>
            <a:r>
              <a:rPr b="0" lang="ja-JP" sz="1200" spc="-1" strike="noStrike">
                <a:solidFill>
                  <a:srgbClr val="000000"/>
                </a:solidFill>
                <a:latin typeface="Calibri"/>
              </a:rPr>
              <a:t>“</a:t>
            </a:r>
            <a:r>
              <a:rPr b="0" lang="en-US" sz="1200" spc="-1" strike="noStrike">
                <a:solidFill>
                  <a:srgbClr val="000000"/>
                </a:solidFill>
                <a:latin typeface="Calibri"/>
              </a:rPr>
              <a:t>rescue</a:t>
            </a:r>
            <a:r>
              <a:rPr b="0" lang="ja-JP" sz="1200" spc="-1" strike="noStrike">
                <a:solidFill>
                  <a:srgbClr val="000000"/>
                </a:solidFill>
                <a:latin typeface="Arial"/>
              </a:rPr>
              <a:t>”</a:t>
            </a:r>
            <a:r>
              <a:rPr b="0" lang="en-US" sz="1200" spc="-1" strike="noStrike">
                <a:solidFill>
                  <a:srgbClr val="000000"/>
                </a:solidFill>
                <a:latin typeface="Calibri"/>
              </a:rPr>
              <a:t> opioids for what is commonly referred to as </a:t>
            </a:r>
            <a:r>
              <a:rPr b="0" lang="ja-JP" sz="1200" spc="-1" strike="noStrike">
                <a:solidFill>
                  <a:srgbClr val="000000"/>
                </a:solidFill>
                <a:latin typeface="Arial"/>
              </a:rPr>
              <a:t>“</a:t>
            </a:r>
            <a:r>
              <a:rPr b="0" lang="en-US" sz="1200" spc="-1" strike="noStrike">
                <a:solidFill>
                  <a:srgbClr val="000000"/>
                </a:solidFill>
                <a:latin typeface="Calibri"/>
              </a:rPr>
              <a:t>breakthrough pain.</a:t>
            </a:r>
            <a:r>
              <a:rPr b="0" lang="ja-JP" sz="1200" spc="-1" strike="noStrike">
                <a:solidFill>
                  <a:srgbClr val="000000"/>
                </a:solidFill>
                <a:latin typeface="Arial"/>
              </a:rPr>
              <a:t>”</a:t>
            </a:r>
            <a:r>
              <a:rPr b="0" lang="en-US" sz="1200" spc="-1" strike="noStrike">
                <a:solidFill>
                  <a:srgbClr val="000000"/>
                </a:solidFill>
                <a:latin typeface="Calibri"/>
              </a:rPr>
              <a:t> </a:t>
            </a:r>
            <a:r>
              <a:rPr b="0" lang="en-US" sz="1200" spc="-1" strike="noStrike">
                <a:solidFill>
                  <a:srgbClr val="000000"/>
                </a:solidFill>
                <a:latin typeface="Calibri"/>
                <a:ea typeface="Times New Roman"/>
              </a:rPr>
              <a:t>Breakthrough pain (BTP) is a term used to describe a transitory exacerbation of pain that occurs on a background of otherwise stable pain in a patient receiving chronic opioid therapy. </a:t>
            </a:r>
            <a:r>
              <a:rPr b="0" lang="en-US" sz="1200" spc="-1" strike="noStrike">
                <a:solidFill>
                  <a:srgbClr val="000000"/>
                </a:solidFill>
                <a:latin typeface="Calibri"/>
              </a:rPr>
              <a:t>This treatment approach is controversial in chronic non-cancer pain. Nearly all people with chronic pain have </a:t>
            </a:r>
            <a:r>
              <a:rPr b="0" lang="ja-JP" sz="1200" spc="-1" strike="noStrike">
                <a:solidFill>
                  <a:srgbClr val="000000"/>
                </a:solidFill>
                <a:latin typeface="Arial"/>
              </a:rPr>
              <a:t>“</a:t>
            </a:r>
            <a:r>
              <a:rPr b="0" lang="en-US" sz="1200" spc="-1" strike="noStrike">
                <a:solidFill>
                  <a:srgbClr val="000000"/>
                </a:solidFill>
                <a:latin typeface="Calibri"/>
              </a:rPr>
              <a:t>flares.</a:t>
            </a:r>
            <a:r>
              <a:rPr b="0" lang="ja-JP" sz="1200" spc="-1" strike="noStrike">
                <a:solidFill>
                  <a:srgbClr val="000000"/>
                </a:solidFill>
                <a:latin typeface="Arial"/>
              </a:rPr>
              <a:t>”</a:t>
            </a:r>
            <a:r>
              <a:rPr b="0" lang="en-US" sz="1200" spc="-1" strike="noStrike">
                <a:solidFill>
                  <a:srgbClr val="000000"/>
                </a:solidFill>
                <a:latin typeface="Calibri"/>
              </a:rPr>
              <a:t> Flares may last a few hours or days to many weeks. Patients with chronic pain are taught to manage flares using a combination of approaches including adjustments in physical activities, use of coping skills, nondrug interventions, and judicious use of analgesic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Portenoy, R. K., &amp; Hagen, N. A. (1990). </a:t>
            </a:r>
            <a:r>
              <a:rPr b="0" lang="en-US" sz="1200" spc="-1" strike="noStrike">
                <a:solidFill>
                  <a:srgbClr val="000000"/>
                </a:solidFill>
                <a:latin typeface="Calibri"/>
              </a:rPr>
              <a:t>Breakthrough pain: definition, prevalence and characteristics. </a:t>
            </a:r>
            <a:r>
              <a:rPr b="0" i="1" lang="en-US" sz="1200" spc="-1" strike="noStrike">
                <a:solidFill>
                  <a:srgbClr val="000000"/>
                </a:solidFill>
                <a:latin typeface="Calibri"/>
              </a:rPr>
              <a:t>Pain, 41</a:t>
            </a:r>
            <a:r>
              <a:rPr b="0" lang="en-US" sz="1200" spc="-1" strike="noStrike">
                <a:solidFill>
                  <a:srgbClr val="000000"/>
                </a:solidFill>
                <a:latin typeface="Calibri"/>
              </a:rPr>
              <a:t>, 273-281.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41560" y="830160"/>
            <a:ext cx="4367160" cy="3275280"/>
          </a:xfrm>
          <a:prstGeom prst="rect">
            <a:avLst/>
          </a:prstGeom>
          <a:ln w="0">
            <a:noFill/>
          </a:ln>
        </p:spPr>
      </p:sp>
      <p:sp>
        <p:nvSpPr>
          <p:cNvPr id="103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though goals of chronic pain treatment include pain relief, it is not always possible and cannot be promised. Treatment goals should be individualized and aimed at all dimensions of the biopsychosocial model that are impacted including the physical, psychological, and behavioral components of pain.</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1560" y="830160"/>
            <a:ext cx="4367160" cy="3275280"/>
          </a:xfrm>
          <a:prstGeom prst="rect">
            <a:avLst/>
          </a:prstGeom>
          <a:ln w="0">
            <a:noFill/>
          </a:ln>
        </p:spPr>
      </p:sp>
      <p:sp>
        <p:nvSpPr>
          <p:cNvPr id="103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gain highlights the importance of a comprehensive, interdisciplinary approach to chronic non-cancer pain that includes active patient participation. Another term used is a </a:t>
            </a:r>
            <a:r>
              <a:rPr b="0" lang="ja-JP" sz="1200" spc="-1" strike="noStrike">
                <a:solidFill>
                  <a:srgbClr val="000000"/>
                </a:solidFill>
                <a:latin typeface="Arial"/>
              </a:rPr>
              <a:t>“</a:t>
            </a:r>
            <a:r>
              <a:rPr b="0" lang="en-US" sz="1200" spc="-1" strike="noStrike">
                <a:solidFill>
                  <a:srgbClr val="000000"/>
                </a:solidFill>
                <a:latin typeface="Calibri"/>
              </a:rPr>
              <a:t>disease-management model</a:t>
            </a:r>
            <a:r>
              <a:rPr b="0" lang="ja-JP" sz="1200" spc="-1" strike="noStrike">
                <a:solidFill>
                  <a:srgbClr val="000000"/>
                </a:solidFill>
                <a:latin typeface="Arial"/>
              </a:rPr>
              <a:t>”</a:t>
            </a:r>
            <a:r>
              <a:rPr b="0" lang="en-US" sz="1200" spc="-1" strike="noStrike">
                <a:solidFill>
                  <a:srgbClr val="000000"/>
                </a:solidFill>
                <a:latin typeface="Calibri"/>
              </a:rPr>
              <a:t> where the team focus is on healthy living, management of the chronic condition, and realistic goals. The goal of exercise should be understood and be individualized to the person’s capacity so as not to overdo creating even more pain and fear about activity.</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1560" y="830160"/>
            <a:ext cx="4367160" cy="3275280"/>
          </a:xfrm>
          <a:prstGeom prst="rect">
            <a:avLst/>
          </a:prstGeom>
          <a:ln w="0">
            <a:noFill/>
          </a:ln>
        </p:spPr>
      </p:sp>
      <p:sp>
        <p:nvSpPr>
          <p:cNvPr id="1037"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patients with chronic pain may be </a:t>
            </a:r>
            <a:r>
              <a:rPr b="0" lang="ja-JP" sz="1200" spc="-1" strike="noStrike">
                <a:solidFill>
                  <a:srgbClr val="000000"/>
                </a:solidFill>
                <a:latin typeface="Arial"/>
              </a:rPr>
              <a:t>“</a:t>
            </a:r>
            <a:r>
              <a:rPr b="0" lang="en-US" sz="1200" spc="-1" strike="noStrike">
                <a:solidFill>
                  <a:srgbClr val="000000"/>
                </a:solidFill>
                <a:latin typeface="Calibri"/>
              </a:rPr>
              <a:t>kinesiophobic</a:t>
            </a:r>
            <a:r>
              <a:rPr b="0" lang="ja-JP" sz="1200" spc="-1" strike="noStrike">
                <a:solidFill>
                  <a:srgbClr val="000000"/>
                </a:solidFill>
                <a:latin typeface="Arial"/>
              </a:rPr>
              <a:t>”</a:t>
            </a:r>
            <a:r>
              <a:rPr b="0" lang="en-US" sz="1200" spc="-1" strike="noStrike">
                <a:solidFill>
                  <a:srgbClr val="000000"/>
                </a:solidFill>
                <a:latin typeface="Calibri"/>
              </a:rPr>
              <a:t> meaning they are afraid of activity because it causes more pain. Different exercise programs are indicated for different pain conditions. Exercise may aim to improve posture and body mechanics, strengthen, or increase movement and flexibility. Exercise in some situations can restore or preserve function and help prevent secondary pain probl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1560" y="830160"/>
            <a:ext cx="4367160" cy="3275280"/>
          </a:xfrm>
          <a:prstGeom prst="rect">
            <a:avLst/>
          </a:prstGeom>
          <a:ln w="0">
            <a:noFill/>
          </a:ln>
        </p:spPr>
      </p:sp>
      <p:sp>
        <p:nvSpPr>
          <p:cNvPr id="1039"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ients may have misconceptions about exercise. Exercise is critical to successful management of most chronic pain problems, but it requires practice and long-term life style changes and maintenance.</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1560" y="830160"/>
            <a:ext cx="4367160" cy="3275280"/>
          </a:xfrm>
          <a:prstGeom prst="rect">
            <a:avLst/>
          </a:prstGeom>
          <a:ln w="0">
            <a:noFill/>
          </a:ln>
        </p:spPr>
      </p:sp>
      <p:sp>
        <p:nvSpPr>
          <p:cNvPr id="1041"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arly all people with chronic pain have </a:t>
            </a:r>
            <a:r>
              <a:rPr b="0" lang="ja-JP" sz="1200" spc="-1" strike="noStrike">
                <a:solidFill>
                  <a:srgbClr val="000000"/>
                </a:solidFill>
                <a:latin typeface="Arial"/>
              </a:rPr>
              <a:t>“</a:t>
            </a:r>
            <a:r>
              <a:rPr b="0" lang="en-US" sz="1200" spc="-1" strike="noStrike">
                <a:solidFill>
                  <a:srgbClr val="000000"/>
                </a:solidFill>
                <a:latin typeface="Calibri"/>
              </a:rPr>
              <a:t>flares</a:t>
            </a:r>
            <a:r>
              <a:rPr b="0" lang="ja-JP" sz="1200" spc="-1" strike="noStrike">
                <a:solidFill>
                  <a:srgbClr val="000000"/>
                </a:solidFill>
                <a:latin typeface="Arial"/>
              </a:rPr>
              <a:t>”</a:t>
            </a:r>
            <a:r>
              <a:rPr b="0" lang="en-US" sz="1200" spc="-1" strike="noStrike">
                <a:solidFill>
                  <a:srgbClr val="000000"/>
                </a:solidFill>
                <a:latin typeface="Calibri"/>
              </a:rPr>
              <a:t>. Flares are short-term increases in one</a:t>
            </a:r>
            <a:r>
              <a:rPr b="0" lang="ja-JP" sz="1200" spc="-1" strike="noStrike">
                <a:solidFill>
                  <a:srgbClr val="000000"/>
                </a:solidFill>
                <a:latin typeface="Arial"/>
              </a:rPr>
              <a:t>’</a:t>
            </a:r>
            <a:r>
              <a:rPr b="0" lang="en-US" sz="1200" spc="-1" strike="noStrike">
                <a:solidFill>
                  <a:srgbClr val="000000"/>
                </a:solidFill>
                <a:latin typeface="Calibri"/>
              </a:rPr>
              <a:t>s usual level of pain. These flares may last a few hours or days to weeks. The reason for the flare can not always be identified but can include stress, hormones, lack of sleep, injury or weather. Chronic pain management should include the use of a flare plan that is not limited to more pain medicin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mportant point in this slide is to make the distinction between the terms used in cancer pain: </a:t>
            </a:r>
            <a:r>
              <a:rPr b="0" lang="ja-JP" sz="1200" spc="-1" strike="noStrike">
                <a:solidFill>
                  <a:srgbClr val="000000"/>
                </a:solidFill>
                <a:latin typeface="Arial"/>
              </a:rPr>
              <a:t>“</a:t>
            </a:r>
            <a:r>
              <a:rPr b="0" lang="en-US" sz="1200" spc="-1" strike="noStrike">
                <a:solidFill>
                  <a:srgbClr val="000000"/>
                </a:solidFill>
                <a:latin typeface="Calibri"/>
              </a:rPr>
              <a:t>breakthrough pain</a:t>
            </a:r>
            <a:r>
              <a:rPr b="0" lang="ja-JP" sz="1200" spc="-1" strike="noStrike">
                <a:solidFill>
                  <a:srgbClr val="000000"/>
                </a:solidFill>
                <a:latin typeface="Arial"/>
              </a:rPr>
              <a:t>”</a:t>
            </a:r>
            <a:r>
              <a:rPr b="0" lang="en-US" sz="1200" spc="-1" strike="noStrike">
                <a:solidFill>
                  <a:srgbClr val="000000"/>
                </a:solidFill>
                <a:latin typeface="Calibri"/>
              </a:rPr>
              <a:t> and </a:t>
            </a:r>
            <a:r>
              <a:rPr b="0" lang="ja-JP" sz="1200" spc="-1" strike="noStrike">
                <a:solidFill>
                  <a:srgbClr val="000000"/>
                </a:solidFill>
                <a:latin typeface="Arial"/>
              </a:rPr>
              <a:t>“</a:t>
            </a:r>
            <a:r>
              <a:rPr b="0" lang="en-US" sz="1200" spc="-1" strike="noStrike">
                <a:solidFill>
                  <a:srgbClr val="000000"/>
                </a:solidFill>
                <a:latin typeface="Calibri"/>
              </a:rPr>
              <a:t>rescue doses.</a:t>
            </a:r>
            <a:r>
              <a:rPr b="0" lang="ja-JP" sz="1200" spc="-1" strike="noStrike">
                <a:solidFill>
                  <a:srgbClr val="000000"/>
                </a:solidFill>
                <a:latin typeface="Arial"/>
              </a:rPr>
              <a:t>”</a:t>
            </a:r>
            <a:r>
              <a:rPr b="0" lang="en-US" sz="1200" spc="-1" strike="noStrike">
                <a:solidFill>
                  <a:srgbClr val="000000"/>
                </a:solidFill>
                <a:latin typeface="Calibri"/>
              </a:rPr>
              <a:t> These terms are controversial as the treatment of chronic non-cancer pain is different.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1560" y="830160"/>
            <a:ext cx="4367160" cy="3275280"/>
          </a:xfrm>
          <a:prstGeom prst="rect">
            <a:avLst/>
          </a:prstGeom>
          <a:ln w="0">
            <a:noFill/>
          </a:ln>
        </p:spPr>
      </p:sp>
      <p:sp>
        <p:nvSpPr>
          <p:cNvPr id="104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ear communication between the patient and members of the health care team members is critical including an accurate pain diagnoses and appropriate treatment plan that includes realistic goals. Collaboration and partnership with the patient is essenti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1560" y="830160"/>
            <a:ext cx="4367160" cy="3275280"/>
          </a:xfrm>
          <a:prstGeom prst="rect">
            <a:avLst/>
          </a:prstGeom>
          <a:ln w="0">
            <a:noFill/>
          </a:ln>
        </p:spPr>
      </p:sp>
      <p:sp>
        <p:nvSpPr>
          <p:cNvPr id="104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tional restoration, pain reduction and enhancement of coping skills are accomplished through a combination of individualized physical, pharmacological, and psychological metho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tient reports reduced pain, improved mobility, improved mood, and better quality of life after 6 weeks of treatment.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1560" y="830160"/>
            <a:ext cx="4367160" cy="3275280"/>
          </a:xfrm>
          <a:prstGeom prst="rect">
            <a:avLst/>
          </a:prstGeom>
          <a:ln w="0">
            <a:noFill/>
          </a:ln>
        </p:spPr>
      </p:sp>
      <p:sp>
        <p:nvSpPr>
          <p:cNvPr id="1047"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tional restoration, pain reduction and enhancement of coping skills are accomplished through a combination of individualized physical, pharmacological, and psychological metho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tient reports reduced pain, improved mobility, improved mood, and better quality of life after 6 weeks of treatment. </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1560" y="830160"/>
            <a:ext cx="4367160" cy="3275280"/>
          </a:xfrm>
          <a:prstGeom prst="rect">
            <a:avLst/>
          </a:prstGeom>
          <a:ln w="0">
            <a:noFill/>
          </a:ln>
        </p:spPr>
      </p:sp>
      <p:sp>
        <p:nvSpPr>
          <p:cNvPr id="1049"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1 of 2 used to summarize the content on chronic non-cancer pain and addiction. Many patients have multiple pain issues and may have both acute and chronic pain. A thorough assessment is required to sort out what type of pain the patient is reporting and reasons for behavior. All members of the health care team provide critical input into assessment, development, and implementation of pain treatment plans that are rationale and evidence-based.</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1560" y="830160"/>
            <a:ext cx="4367160" cy="3275280"/>
          </a:xfrm>
          <a:prstGeom prst="rect">
            <a:avLst/>
          </a:prstGeom>
          <a:ln w="0">
            <a:noFill/>
          </a:ln>
        </p:spPr>
      </p:sp>
      <p:sp>
        <p:nvSpPr>
          <p:cNvPr id="1051"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1 of 2 used to summarize the content on chronic non-cancer pain and addiction. Many patients have multiple pain issues and may have both acute and chronic pain. A thorough assessment is required to sort out what type of pain the patient is reporting and reasons for behavior. All members of the health care team provide critical input into assessment, development, and implementation of pain treatment plans that are rationale and evidence-bas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1560" y="830160"/>
            <a:ext cx="4367160" cy="3275280"/>
          </a:xfrm>
          <a:prstGeom prst="rect">
            <a:avLst/>
          </a:prstGeom>
          <a:ln w="0">
            <a:noFill/>
          </a:ln>
        </p:spPr>
      </p:sp>
      <p:sp>
        <p:nvSpPr>
          <p:cNvPr id="105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summarize, chronic pain involves complex changes in the structure and function of nervous system that are not completely understood. There is no neurophysiologic test that can measure pain. Chronic pain assessment includes biology (e.g. identify and reduce or eliminate the cause if possible), psychology (e.g. exploring a patient’s beliefs about pain and how pain affects mood, illness behavior, coping strategies, and emotional distress), as well as social (e.g. family, work, and social ro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Symptom management of any pain should combine both drug and nondrug modalities in a balanced manner that is tailored to the type of pain and the individual.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4440" y="685800"/>
            <a:ext cx="4569120" cy="342756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Arial"/>
              </a:rPr>
              <a:t>“</a:t>
            </a:r>
            <a:r>
              <a:rPr b="0" lang="en-US" sz="1200" spc="-1" strike="noStrike">
                <a:solidFill>
                  <a:srgbClr val="000000"/>
                </a:solidFill>
                <a:latin typeface="Arial"/>
                <a:ea typeface="Arial"/>
              </a:rPr>
              <a:t>Addiction is a primary, chronic disease of brain reward, motivation, memory and related circuitry. Dysfunction in these circuits leads to characteristic biological, psychological, social and spiritual manifestations. This is reflected in an individual pathologically pursuing reward and/or relief by substance use and other behaviors.</a:t>
            </a:r>
            <a:r>
              <a:rPr b="0" lang="ja-JP" sz="1200" spc="-1" strike="noStrike">
                <a:solidFill>
                  <a:srgbClr val="000000"/>
                </a:solidFill>
                <a:latin typeface="Arial"/>
                <a:ea typeface="Arial"/>
              </a:rPr>
              <a:t>”</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Society of Addiction Medicine</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asam.org/for-the-public/definition-of-addi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iction is characterized by inability to consistently abstain, impairment in behavioral control, craving, diminished recognition of significant problems with one</a:t>
            </a:r>
            <a:r>
              <a:rPr b="0" lang="ja-JP" sz="1200" spc="-1" strike="noStrike">
                <a:solidFill>
                  <a:srgbClr val="000000"/>
                </a:solidFill>
                <a:latin typeface="Calibri"/>
              </a:rPr>
              <a:t>’</a:t>
            </a:r>
            <a:r>
              <a:rPr b="0" lang="en-US" sz="1200" spc="-1" strike="noStrike">
                <a:solidFill>
                  <a:srgbClr val="000000"/>
                </a:solidFill>
                <a:latin typeface="Calibri"/>
              </a:rPr>
              <a:t>s behaviors and interpersonal relationships, and a dysfunctional emotional response. Like other chronic diseases, addiction often involves cycles of relapse and remission. Without treatment or engagement in recovery activities, addiction is progressive and can result in disability or premature deat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4440" y="685800"/>
            <a:ext cx="4569120" cy="342756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ysiologically, addiction involves neurochemical stimulation of the brain</a:t>
            </a:r>
            <a:r>
              <a:rPr b="0" lang="ja-JP" sz="1200" spc="-1" strike="noStrike">
                <a:solidFill>
                  <a:srgbClr val="000000"/>
                </a:solidFill>
                <a:latin typeface="Arial"/>
              </a:rPr>
              <a:t>’</a:t>
            </a:r>
            <a:r>
              <a:rPr b="0" lang="en-US" sz="1200" spc="-1" strike="noStrike">
                <a:solidFill>
                  <a:srgbClr val="000000"/>
                </a:solidFill>
                <a:latin typeface="Calibri"/>
              </a:rPr>
              <a:t>s reward center, a component of the limbic system that generates feelings. The reward circuit is mediated by the neurotransmitter, dopamine. Abusable drugs such as opioids and other substances can create this reward syste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understand that genetic, sociocultural, and environmental factors may contribute to the overall disease development. Genetic factors account for about half of the likelihood that an individual will develop addiction. Environmental factors interact with the person</a:t>
            </a:r>
            <a:r>
              <a:rPr b="0" lang="ja-JP" sz="1200" spc="-1" strike="noStrike">
                <a:solidFill>
                  <a:srgbClr val="000000"/>
                </a:solidFill>
                <a:latin typeface="Calibri"/>
              </a:rPr>
              <a:t>’</a:t>
            </a:r>
            <a:r>
              <a:rPr b="0" lang="en-US" sz="1200" spc="-1" strike="noStrike">
                <a:solidFill>
                  <a:srgbClr val="000000"/>
                </a:solidFill>
                <a:latin typeface="Calibri"/>
              </a:rPr>
              <a:t>s biology and affect the extent to which genetic factors exert their influence. Resiliencies the individual acquires (through parenting or life experiences) can affect the extent to which genetic predispositions lead to the behavioral and other manifestations of addiction. Culture also plays a role in how addiction becomes actualized in persons with biological vulnerabilities to the development of addiction.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Calibri"/>
              </a:rPr>
              <a:t>Module 8</a:t>
            </a:r>
            <a:br>
              <a:rPr sz="1200"/>
            </a:br>
            <a:r>
              <a:rPr b="1" lang="en-US" sz="1200" spc="-1" strike="noStrike">
                <a:solidFill>
                  <a:srgbClr val="000000"/>
                </a:solidFill>
                <a:latin typeface="Calibri"/>
                <a:ea typeface="Times New Roman"/>
              </a:rPr>
              <a:t>Principles of Pain Management in Patients with Substance Abuse</a:t>
            </a:r>
            <a:r>
              <a:rPr b="1" lang="en-US" sz="1100" spc="-1" strike="noStrike">
                <a:solidFill>
                  <a:srgbClr val="000000"/>
                </a:solidFill>
                <a:latin typeface="Franklin Gothic Book"/>
                <a:ea typeface="Times New Roman"/>
              </a:rPr>
              <a:t> </a:t>
            </a:r>
            <a:endParaRPr b="0" lang="en-US" sz="1100" spc="-1" strike="noStrike">
              <a:solidFill>
                <a:srgbClr val="1a1a1a"/>
              </a:solidFill>
              <a:latin typeface="Arial"/>
            </a:endParaRPr>
          </a:p>
        </p:txBody>
      </p:sp>
      <p:sp>
        <p:nvSpPr>
          <p:cNvPr id="1059" name="PlaceHolder 1"/>
          <p:cNvSpPr>
            <a:spLocks noGrp="1"/>
          </p:cNvSpPr>
          <p:nvPr>
            <p:ph type="sldImg"/>
          </p:nvPr>
        </p:nvSpPr>
        <p:spPr>
          <a:xfrm>
            <a:off x="1144440" y="685800"/>
            <a:ext cx="4569120" cy="3427560"/>
          </a:xfrm>
          <a:prstGeom prst="rect">
            <a:avLst/>
          </a:prstGeom>
          <a:ln w="0">
            <a:noFill/>
          </a:ln>
        </p:spPr>
      </p:sp>
      <p:sp>
        <p:nvSpPr>
          <p:cNvPr id="1060" name="PlaceHolder 2"/>
          <p:cNvSpPr>
            <a:spLocks noGrp="1"/>
          </p:cNvSpPr>
          <p:nvPr>
            <p:ph type="body"/>
          </p:nvPr>
        </p:nvSpPr>
        <p:spPr>
          <a:xfrm>
            <a:off x="685800" y="4125960"/>
            <a:ext cx="5486400" cy="43416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reporting substance abuse rates among patients experiencing pain reveal variable results. There are numerous problems with the studies that examine prevalence rates of substance abuse including lack of a uniform definition of addiction or substance abuse. The prevalence of addiction varies from 0% up to 50% in chronic non-malignant pain patients, and from 0% to 7.7% in cancer patients depending of the subpopulation studied and the criteria used. Patients classified as addicted have been associated with treatment with significantly higher opioid doses, more alcohol use, tobacco smoking, benzodiazepines use, and higher levels of depression and low education level. Misunderstandings and fear of addiction is a well recognized barrier to pain management for providers and patients and famil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ton WM, Tomas YF, Stinson FS, Grant BF. Prevalence, correlates, disability, and comorbidity of DSM-IV drug abuse and dependence in the United States: results from the national epidemiogic survey on alcohol and related conditions. Arch Gen Psychiatry </a:t>
            </a:r>
            <a:r>
              <a:rPr b="0" lang="pl-PL" sz="1200" spc="-1" strike="noStrike">
                <a:solidFill>
                  <a:srgbClr val="000000"/>
                </a:solidFill>
                <a:latin typeface="Calibri"/>
              </a:rPr>
              <a:t>2007 May;64(5):566-7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Hojsted J, Nielsen PR, Guldstrand SK, Frich L, Sjogren P. Classification and identification of opioid addiction in chronic pain patients. Eur J Pain. 2010 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jsted J, Sjogren P. Addiction to opioids in chronic pain patients: A literature review. E J Pain 2007;11(5)</a:t>
            </a:r>
            <a:r>
              <a:rPr b="0" lang="fr-FR" sz="1200" spc="-1" strike="noStrike">
                <a:solidFill>
                  <a:srgbClr val="000000"/>
                </a:solidFill>
                <a:latin typeface="Calibri"/>
              </a:rPr>
              <a:t>:1014-20.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Calibri"/>
              </a:rPr>
              <a:t>Module 8</a:t>
            </a:r>
            <a:br>
              <a:rPr sz="1200"/>
            </a:br>
            <a:r>
              <a:rPr b="1" lang="en-US" sz="1200" spc="-1" strike="noStrike">
                <a:solidFill>
                  <a:srgbClr val="000000"/>
                </a:solidFill>
                <a:latin typeface="Calibri"/>
                <a:ea typeface="Times New Roman"/>
              </a:rPr>
              <a:t>Principles of Pain Management in Patients with Substance Abuse</a:t>
            </a:r>
            <a:r>
              <a:rPr b="1" lang="en-US" sz="1100" spc="-1" strike="noStrike">
                <a:solidFill>
                  <a:srgbClr val="000000"/>
                </a:solidFill>
                <a:latin typeface="Franklin Gothic Book"/>
                <a:ea typeface="Times New Roman"/>
              </a:rPr>
              <a:t> </a:t>
            </a:r>
            <a:endParaRPr b="0" lang="en-US" sz="1100" spc="-1" strike="noStrike">
              <a:solidFill>
                <a:srgbClr val="1a1a1a"/>
              </a:solidFill>
              <a:latin typeface="Arial"/>
            </a:endParaRPr>
          </a:p>
        </p:txBody>
      </p:sp>
      <p:sp>
        <p:nvSpPr>
          <p:cNvPr id="1062" name="PlaceHolder 1"/>
          <p:cNvSpPr>
            <a:spLocks noGrp="1"/>
          </p:cNvSpPr>
          <p:nvPr>
            <p:ph type="sldImg"/>
          </p:nvPr>
        </p:nvSpPr>
        <p:spPr>
          <a:xfrm>
            <a:off x="1144440" y="685800"/>
            <a:ext cx="4569120" cy="3427560"/>
          </a:xfrm>
          <a:prstGeom prst="rect">
            <a:avLst/>
          </a:prstGeom>
          <a:ln w="0">
            <a:noFill/>
          </a:ln>
        </p:spPr>
      </p:sp>
      <p:sp>
        <p:nvSpPr>
          <p:cNvPr id="1063" name="PlaceHolder 2"/>
          <p:cNvSpPr>
            <a:spLocks noGrp="1"/>
          </p:cNvSpPr>
          <p:nvPr>
            <p:ph type="body"/>
          </p:nvPr>
        </p:nvSpPr>
        <p:spPr>
          <a:xfrm>
            <a:off x="685800" y="4125960"/>
            <a:ext cx="5486400" cy="43416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reporting substance abuse rates among patients experiencing pain reveal variable results. There are numerous problems with the studies that examine prevalence rates of substance abuse including lack of a uniform definition of addiction or substance abuse. The prevalence of addiction varies from 0% up to 50% in chronic non-malignant pain patients, and from 0% to 7.7% in cancer patients depending of the subpopulation studied and the criteria used. Patients classified as addicted have been associated with treatment with significantly higher opioid doses, more alcohol use, tobacco smoking, benzodiazepines use, and higher levels of depression and low education level. Misunderstandings and fear of addiction is a well recognized barrier to pain management for providers and patients and famil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ton WM, Tomas YF, Stinson FS, Grant BF. Prevalence, correlates, disability, and comorbidity of DSM-IV drug abuse and dependence in the United States: results from the national epidemiogic survey on alcohol and related conditions. Arch Gen Psychiatry </a:t>
            </a:r>
            <a:r>
              <a:rPr b="0" lang="pl-PL" sz="1200" spc="-1" strike="noStrike">
                <a:solidFill>
                  <a:srgbClr val="000000"/>
                </a:solidFill>
                <a:latin typeface="Calibri"/>
              </a:rPr>
              <a:t>2007 May;64(5):566-7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Hojsted J, Nielsen PR, Guldstrand SK, Frich L, Sjogren P. Classification and identification of opioid addiction in chronic pain patients. Eur J Pain. 2010 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jsted J, Sjogren P. Addiction to opioids in chronic pain patients: A literature review. E J Pain 2007;11(5)</a:t>
            </a:r>
            <a:r>
              <a:rPr b="0" lang="fr-FR" sz="1200" spc="-1" strike="noStrike">
                <a:solidFill>
                  <a:srgbClr val="000000"/>
                </a:solidFill>
                <a:latin typeface="Calibri"/>
              </a:rPr>
              <a:t>:1014-20. </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4440" y="685800"/>
            <a:ext cx="4569120" cy="342756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ients, families, and healthcare professionals often confuse other drug-related terms with addiction. It is essential that health care providers differentiate between addiction and these other physiological and psychological manifestations. For example, physical dependence and tolerance are physiological phenomena in which the patient has no control. Pseudoaddiction and pseudotolerance are psychological manifestations associated with opioid use, but have generally be considered distinct from addiction. Clear definitions can assist with optimal management of pain while managing addictive disorders as well. Confusion of these important definitions further contributes to the under treatment of pain. These terms are defined elsewhere in the other slides.</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4440" y="685800"/>
            <a:ext cx="4569120" cy="342756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definition of physical dependence that appears on this slide also comes from the joint statement that was developed by the American Academy of Pain Medicine, American Pain Society, and the American Society of Addiction Medicine. These are two distinct phenomena. Physical dependence is a normal predictable response that occurs with the continued use of certain medications, including opioids, benzodiazepines, and alcohol. The abrupt cessation, rapid dose reduction, or administration of an antagonist (such as naloxone for opioids) will precipitate the physiological response of withdrawal. Tapering of medications is necessary to prevent withdrawal. The overall message to convey is that physical dependence is not addi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4440" y="685800"/>
            <a:ext cx="4569120" cy="342756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erson with the disease of addiction may indeed be tolerant, but tolerance is not the same as addiction. Tolerance can develop to both the analgesic properties of a medication as well as to the side effects. For example, there is evidence suggesting that patients can become tolerant to opioid-induced nausea and vomiting after receiving the medication for a number of days. Patients also commonly grow tolerant to the respiratory depression effects, thereby making administration of the opioid safer over time. Patients can also develop tolerance to the therapeutic analgesic effect necessitating a dose titration. Again, this is a normal physiological manifestation that occurs in certain medica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4440" y="685800"/>
            <a:ext cx="4569120" cy="342756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seudoaddiction is the term used to describe patients who exhibit addiction-like behaviors due to the lack of adequate pain management. Patients with breakthrough pain may experience these behaviors. Behaviors include clock watching in anticipation of taking an opioid, a focus on obtaining more drug, and exaggerated behaviors in order to obtain more drug for the relief of pain. Drug-seeking behaviors resolve when pain is effectively managed in patients with pseudoaddiction, a distinction from true addi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44440" y="685800"/>
            <a:ext cx="4569120" cy="342756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seudotolerance is the need to increase the dose that is not due to tolerance. A frequent cause of dose increase, often seen in patients with cancer, is disease progression. Therefore, the dose increase is needed not due to opioid tolerance, but rather the disease has progressed. Other conditions that may increase pain and simulate tolerance include new disease processes, an increase in the activity level from baseline, and lack of drug adherence. Addiction should also be considered.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universal approach to management of opioid therapy is increasingly being recommended for the assessment and ongoing management of chronic opioid therapy. This includes risk screening and stratification for substance abuse and addiction at onset of therapy, counseling patients and families on the risks and benefits of opioids, use of a written treatment agreement, and pre and post assessment of pain and fun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any pain management centers measure risk using one of several partially validated measures: the Screener and Opioid Assessment for Patients with Pain (SOAPP), the Diagnosis, Intractability, Risk, and Efficacy inventory (DIRE), and/or the Opioid Risk Tool (ORT). Among patients who were discontinued from opioids for aberrant drug-related behaviors, the clinical interview and the SOAPP were most effective at predicting risk at baseline but a simple clinical interview in a nonjudgmental approach can be as or more effective . Thoughtful application of this approach is aimed at reducing improving patient safety, promoting individual care and improved outcom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teven D.Managing pain in patients with aberrant drug-taking behaviors. The Journal of supportive oncology, 3(2005-01), 83-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D, Sirsh KL, Whitcomb L, Portenoy RK Katz NP, Kleinman L, Doss SL, Schein JR. A new tool to assess and document pain outcomes in chronic pain patients receiving opioid therapy. Clin Ther. 2004 Apr;26(4):552-6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ore TM, Jones T, Browder JH, Daffron S, Passik SD. A comparison of common screening methods for predicting aberrant drug-related behavior among patients receiving opioids for chronic pain management. Pain Med. 2009 Nov;10(8):1426-33.</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urlay DL, Heit HA. Universal precautions revisited: managing the inherited pain patient. Pain Medicine 2009 10 (S2):S115-A123.</a:t>
            </a:r>
            <a:endParaRPr b="0" lang="en-US" sz="1200" spc="-1" strike="noStrike">
              <a:solidFill>
                <a:srgbClr val="000000"/>
              </a:solidFill>
              <a:latin typeface="Calibri"/>
            </a:endParaRPr>
          </a:p>
        </p:txBody>
      </p:sp>
      <p:sp>
        <p:nvSpPr>
          <p:cNvPr id="10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4440" y="685800"/>
            <a:ext cx="4569120" cy="342756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timal methods to predict risk of aberrant drug-related behaviors before initiation of opioids for chronic noncancer pain and to identify aberrant behaviors after therapy is initiated are uncertain. Evidence on prediction and identification of aberrant drug-related behaviors is limited. Although several screening instruments such as the Opioid Risk Tool (ORT) and Screener and Opioid Assessment for Patients with Pain (SOAPP) may be useful, evidence is sparse. The 4 A</a:t>
            </a:r>
            <a:r>
              <a:rPr b="0" lang="ja-JP" sz="1200" spc="-1" strike="noStrike">
                <a:solidFill>
                  <a:srgbClr val="000000"/>
                </a:solidFill>
                <a:latin typeface="Arial"/>
              </a:rPr>
              <a:t>’</a:t>
            </a:r>
            <a:r>
              <a:rPr b="0" lang="en-US" sz="1200" spc="-1" strike="noStrike">
                <a:solidFill>
                  <a:srgbClr val="000000"/>
                </a:solidFill>
                <a:latin typeface="Calibri"/>
              </a:rPr>
              <a:t>s provide a framework to guide goals of the pain management plan and include analgesia, activities of daily living, adverse events, and aberrant behaviors. Ongoing monitoring of the four A’ can help guide the treatment plan and detect development of addi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ou R, Fanciulo GJ, Fine PG, Miaskowski C, Passik SD, Portenoy RK, Opioids for chronic noncancer pain: prediction and identification of aberrant drug-related behaviors: a review of the evidence for an American Pain Society and American Academy of Pain Medicine clinical practice guideline. J Pain. 2009 Feb;10(2):131-4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1560" y="830160"/>
            <a:ext cx="4367160" cy="3275280"/>
          </a:xfrm>
          <a:prstGeom prst="rect">
            <a:avLst/>
          </a:prstGeom>
          <a:ln w="0">
            <a:noFill/>
          </a:ln>
        </p:spPr>
      </p:sp>
      <p:sp>
        <p:nvSpPr>
          <p:cNvPr id="1004"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ndard internationally accepted definitions of chronic pain are not available. </a:t>
            </a:r>
            <a:r>
              <a:rPr b="0" lang="en-US" sz="1200" spc="-1" strike="noStrike">
                <a:solidFill>
                  <a:srgbClr val="ffff00"/>
                </a:solidFill>
                <a:latin typeface="Tahoma"/>
              </a:rPr>
              <a:t>According to IASP, pain is an unpleasant sensory and emotional experience associated with actual or potential tissue damage, or described in terms of such damage. Pain is always subjective. Each individual learns application of the word thru injury in early life. Pain is unquestionable a sensation in part, or parts of the body, but it is always unpleasant and therefore an emotional experience. Behavioral responses to pain are subjective and highly variable.</a:t>
            </a:r>
            <a:endParaRPr b="0" lang="en-US" sz="1200" spc="-1" strike="noStrike">
              <a:solidFill>
                <a:srgbClr val="000000"/>
              </a:solidFill>
              <a:latin typeface="Calibri"/>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ASP has recognized chronic pain as pain that pain which persists past the normal time of healing (Bonica 1953). With nonmalignant pain, three months is the most convenient point of division between acute and chronic pain, but for research purposes six months will often be preferred. The definition related to the time of normal healing is not sufficient. Many syndromes are treated as examples of chronic pain although normal healing has not occurred. This length of time is determined by common medical experi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ronic pain is a result of changes in the nervous system called remodeling. The nervous system is changed physiochemically in both its structure and function in a way that is dysfunctional. The changes in the nervous system can be permanent and may have no cure. Chronic pain generally serves no biological purpose (it is often referred to as </a:t>
            </a:r>
            <a:r>
              <a:rPr b="0" lang="ja-JP" sz="1200" spc="-1" strike="noStrike">
                <a:solidFill>
                  <a:srgbClr val="000000"/>
                </a:solidFill>
                <a:latin typeface="Arial"/>
              </a:rPr>
              <a:t>“</a:t>
            </a:r>
            <a:r>
              <a:rPr b="0" lang="en-US" sz="1200" spc="-1" strike="noStrike">
                <a:solidFill>
                  <a:srgbClr val="000000"/>
                </a:solidFill>
                <a:latin typeface="Calibri"/>
              </a:rPr>
              <a:t>meaningless</a:t>
            </a:r>
            <a:r>
              <a:rPr b="0" lang="ja-JP" sz="1200" spc="-1" strike="noStrike">
                <a:solidFill>
                  <a:srgbClr val="000000"/>
                </a:solidFill>
                <a:latin typeface="Arial"/>
              </a:rPr>
              <a: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00"/>
                </a:solidFill>
                <a:latin typeface="Tahoma"/>
              </a:rPr>
              <a:t>According to IASP, pain is an unpleasant sensory and emotional experience associated with actual or potential tissue damage, or described in terms of such damage. Pain is always subjective. Each individual learns application of the word thru injury in early life.....It is unquestionable as sensation in part, or parts of the body, but it is always unpleasant and therefore an emotional experi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4440" y="685800"/>
            <a:ext cx="4569120" cy="342756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recognize that aberrant drug-taking behaviors generally occur along a continuum. Some behaviors may indicate less aberrant behavior and other behaviors typify more aberrant behavior. The less aberrant behaviors may again, typify cultural norms, but repeated behavior is suspicious. Included in the list of less aberrant behaviors is 1) drug hoarding, 2) acquiring drugs from multiple medical sources – some patients who cannot get the comfort they desire may seek out additional sources, 3) aggressive complaining – this could be due to unrelieved pain, 4) unapproved use of a drug to treat a symptom, 5) unsanctioned dose escalation – the degree of the aberrancy is related to the number of times an individual escalates the dose; when individuals escalate dose outside of the prescription more than once or twice, behavior is more aberrant, 6) psychic effects include unusual patient complaints (euphoria, a </a:t>
            </a:r>
            <a:r>
              <a:rPr b="0" lang="ja-JP" sz="1200" spc="-1" strike="noStrike">
                <a:solidFill>
                  <a:srgbClr val="000000"/>
                </a:solidFill>
                <a:latin typeface="Arial"/>
              </a:rPr>
              <a:t>“</a:t>
            </a:r>
            <a:r>
              <a:rPr b="0" lang="en-US" sz="1200" spc="-1" strike="noStrike">
                <a:solidFill>
                  <a:srgbClr val="000000"/>
                </a:solidFill>
                <a:latin typeface="Calibri"/>
              </a:rPr>
              <a:t>buzz</a:t>
            </a:r>
            <a:r>
              <a:rPr b="0" lang="ja-JP" sz="1200" spc="-1" strike="noStrike">
                <a:solidFill>
                  <a:srgbClr val="000000"/>
                </a:solidFill>
                <a:latin typeface="Arial"/>
              </a:rPr>
              <a:t>”</a:t>
            </a:r>
            <a:r>
              <a:rPr b="0" lang="en-US" sz="1200" spc="-1" strike="noStrike">
                <a:solidFill>
                  <a:srgbClr val="000000"/>
                </a:solidFill>
                <a:latin typeface="Calibri"/>
              </a:rPr>
              <a:t>) that are not anticipated with therapeutic opioid management, 7) requesting specific drugs – while this holds suspicion, some chronically ill patients may be well-versed at what works and what does not work in their painful situ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D, Issues in long-term opioid therapy: umet needs, risks and solutions. May Clin Proc 2009;84(7):5893-6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44440" y="685800"/>
            <a:ext cx="4569120" cy="342756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 aberrant behaviors include: 1) selling prescription drugs, 2) forging prescriptions – an illegal act, 3) concurrent illicit drug use – for example, if the patient is also using alcohol or methamphetamine, there is high suspicion for abuse, 4) multiple prescription or medication losses – it is important to assess the home environment and ensure that medications are kept safe from others who may steal them, 5) unsanctioned dose escalations that are ongoing, 6) stealing drugs – keep in mind that borrowing is included in this list but borrowing was also found to be common in 26% of patients with cancer, 7) obtaining prescription from nonmedical sources – would include drugs that are sought on </a:t>
            </a:r>
            <a:r>
              <a:rPr b="0" lang="ja-JP" sz="1200" spc="-1" strike="noStrike">
                <a:solidFill>
                  <a:srgbClr val="000000"/>
                </a:solidFill>
                <a:latin typeface="Arial"/>
              </a:rPr>
              <a:t>“</a:t>
            </a:r>
            <a:r>
              <a:rPr b="0" lang="en-US" sz="1200" spc="-1" strike="noStrike">
                <a:solidFill>
                  <a:srgbClr val="000000"/>
                </a:solidFill>
                <a:latin typeface="Calibri"/>
              </a:rPr>
              <a:t>the street</a:t>
            </a:r>
            <a:r>
              <a:rPr b="0" lang="ja-JP" sz="1200" spc="-1" strike="noStrike">
                <a:solidFill>
                  <a:srgbClr val="000000"/>
                </a:solidFill>
                <a:latin typeface="Arial"/>
              </a:rPr>
              <a:t>”</a:t>
            </a:r>
            <a:r>
              <a:rPr b="0" lang="en-US" sz="1200" spc="-1" strike="noStrike">
                <a:solidFill>
                  <a:srgbClr val="000000"/>
                </a:solidFill>
                <a:latin typeface="Calibri"/>
              </a:rPr>
              <a:t> or on the internet, 8) Repeated resistance to change even with clear evidence that the drug choice is ineffective or having a negative impact on the pati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ain, keep in mind that observing behavior over time is the best way to evaluate drug-taking behaviors.</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4440" y="685800"/>
            <a:ext cx="4569120" cy="342756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indicate that there are demographic differences in those who are more likely to exhibit more obvious aberrant behaviors and are more likely to have problems of addiction. Genetic factors account for about half of the likelihood that an individual will develop addiction. Environmental factors interact with the person</a:t>
            </a:r>
            <a:r>
              <a:rPr b="0" lang="ja-JP" sz="1200" spc="-1" strike="noStrike">
                <a:solidFill>
                  <a:srgbClr val="000000"/>
                </a:solidFill>
                <a:latin typeface="Calibri"/>
              </a:rPr>
              <a:t>’</a:t>
            </a:r>
            <a:r>
              <a:rPr b="0" lang="en-US" sz="1200" spc="-1" strike="noStrike">
                <a:solidFill>
                  <a:srgbClr val="000000"/>
                </a:solidFill>
                <a:latin typeface="Calibri"/>
              </a:rPr>
              <a:t>s biology and affect the extent to which genetic factors exert their influence. Resiliencies the individual acquires (through parenting or later life experiences) can affect the extent to which genetic predispositions lead to the behavioral and other manifestations of addiction. Culture also plays a role in how addiction becomes actualized in persons with biological vulnerabilities to the development of addi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factors associated with more aberrant behaviors include a history of legal problems, personal drug or alcohol abuse, mental health problems, having multiple motor vehicle accidents, smoking (especially within 1 hour of awakening in the AM), reporting fewer adverse events from the pain management regimen, and a high opioid do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keep in mind that these variables have been associated with increased risk for more aberrant drug-taking behaviors but do not necessarily mean the patient has an addiction problem. Ongoing assessment and a watchful eye for aberrant behaviors is essential for the assessment of addiction.</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4440" y="685800"/>
            <a:ext cx="4569120" cy="342756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aberrant behaviors arise, the assessment for addiction requires the consideration of several potential differential diagnoses. Pseudoaddiction should be ruled out if patient behavior subsides when the pain is relieved. Other psychiatric diagnoses should be considered, especially if drug use is impulsive. Patients can also self-medicate emotional problems such anxiety and depression. Chemical coping can also be common among patients. This occurs when patients are overly focused on various drugs and frequently self-medicate symptoms of anxiety, depression, insomnia, and emotional problems. A serious diagnosis is criminal intent, that occurs when the individual seeks opioids from providers for diversion and profitable street sales.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ong S, Ordean A, Kahan M; Maternal Fetal Medicine Committee; Family Physicians Advisory Committee; Medico-Legal Committee; Society of Obstetricians and Gynaecologists of Canada. Substance use in pregnancy. J Obstet Gynaecol Can. 2011 Apr;33(4):367-84.</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gnant women with pain that is severe enough to warrant drug treatment (self-administered or prescribed by attendants) represent a problematic cohort in that drugs given to them almo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ways cross the placenta. While most drugs are safe there are particular times of concern, notably the period of organogenesis (weeks 4 to 10) and just before delivery. Where possible, non-pharmacological treatment options should be considered before analgesic medicat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HO reviewed studies that involved participants from North America, South America, Middle-East, Asia and Africa. Although pethidine was the main drug tested in the trials included in the review, other drug included in the comparisons may not be available in developing countries. The comparative advantages of the more sophisticated drugs such as butorphanol, metazinol and nalbuphine over the more easily available pethidine and pentazocine were not clearly shown in the trials reviewed by the WHO. Owing to their ease of availability and lower cost, pethidine and pentazocine may be preferred in developing countries instead of the newer, more expensive opioids. Although the review was inconclusive with regard to neonatal complications associated with opioids, pethidine appears to be associated with a higher in incidence of low Apgar scores. Hence, appropriate neonatal resuscitation support should always be in place in health-care units opting to provide this drug for labour analgesia. The lack of resuscitation support and storage facilities and controls in primary- and secondary-level health centres in developing countries may be a challenge to the provision of opioids for labour pain in those center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93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cintyre PE, Schug SA, Scott DA, Visser EJ, Walker SM; APM:SE Working Group of the Australian and New Zealand College of Anaesthetists and Faculty of Pain Medicine (2010), Acute Pain Management: Scientific Evidence (3rd edition), ANZCA &amp; FPM, Melbourne.</a:t>
            </a:r>
            <a:endParaRPr b="0" lang="en-US" sz="12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http://www.anzca.edu.au/resources/college-publications/pdfs/Acute%20Pain%20Management/books-and-publications/acutepain.pdf</a:t>
            </a: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Olayemi O. Parenteral opioids for maternal pain relief in labour: RHL commentary (last revised: 1 June 2011). The WHO Reproductive Health Library;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routine_care/CD007396_olayemio_com/e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Lavender T and Mlay R. Position in the second stage of labour for women without epidural anaesthesia: RHL commentary (last revised: 15 December 2006). </a:t>
            </a:r>
            <a:r>
              <a:rPr b="0" i="1" lang="en-US" sz="2500" spc="-1" strike="noStrike">
                <a:solidFill>
                  <a:srgbClr val="000000"/>
                </a:solidFill>
                <a:latin typeface="Calibri"/>
              </a:rPr>
              <a:t>The WHO Reproductive Health Library</a:t>
            </a:r>
            <a:r>
              <a:rPr b="0" lang="en-US" sz="2500" spc="-1" strike="noStrike">
                <a:solidFill>
                  <a:srgbClr val="000000"/>
                </a:solidFill>
                <a:latin typeface="Calibri"/>
              </a:rPr>
              <a:t>;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2nd_stage/tlacom/en/</a:t>
            </a:r>
            <a:endParaRPr b="0" lang="en-US" sz="25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gnant women with pain that is severe enough to warrant drug treatment (self-administered or prescribed by attendants) represent a problematic cohort in that drugs given to them almo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ways cross the placenta. While most drugs are safe there are particular times of concern, notably the period of organogenesis (weeks 4 to 10) and just before delivery. Where possible, non-pharmacological treatment options should be considered before analgesic medicat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HO reviewed studies that involved participants from North America, South America, Middle-East, Asia and Africa. Although pethidine was the main drug tested in the trials included in the review, other drug included in the comparisons may not be available in developing countries. The comparative advantages of the more sophisticated drugs such as butorphanol, metazinol and nalbuphine over the more easily available pethidine and pentazocine were not clearly shown in the trials reviewed by the WHO. Owing to their ease of availability and lower cost, pethidine and pentazocine may be preferred in developing countries instead of the newer, more expensive opioids. Although the review was inconclusive with regard to neonatal complications associated with opioids, pethidine appears to be associated with a higher in incidence of low Apgar scores. Hence, appropriate neonatal resuscitation support should always be in place in health-care units opting to provide this drug for labour analgesia. The lack of resuscitation support and storage facilities and controls in primary- and secondary-level health centres in developing countries may be a challenge to the provision of opioids for labour pain in those center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93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cintyre PE, Schug SA, Scott DA, Visser EJ, Walker SM; APM:SE Working Group of the Australian and New Zealand College of Anaesthetists and Faculty of Pain Medicine (2010), Acute Pain Management: Scientific Evidence (3rd edition), ANZCA &amp; FPM, Melbourne.</a:t>
            </a:r>
            <a:endParaRPr b="0" lang="en-US" sz="12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http://www.anzca.edu.au/resources/college-publications/pdfs/Acute%20Pain%20Management/books-and-publications/acutepain.pdf</a:t>
            </a: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Olayemi O. Parenteral opioids for maternal pain relief in labour: RHL commentary (last revised: 1 June 2011). The WHO Reproductive Health Library;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routine_care/CD007396_olayemio_com/e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Lavender T and Mlay R. Position in the second stage of labour for women without epidural anaesthesia: RHL commentary (last revised: 15 December 2006). </a:t>
            </a:r>
            <a:r>
              <a:rPr b="0" i="1" lang="en-US" sz="2500" spc="-1" strike="noStrike">
                <a:solidFill>
                  <a:srgbClr val="000000"/>
                </a:solidFill>
                <a:latin typeface="Calibri"/>
              </a:rPr>
              <a:t>The WHO Reproductive Health Library</a:t>
            </a:r>
            <a:r>
              <a:rPr b="0" lang="en-US" sz="2500" spc="-1" strike="noStrike">
                <a:solidFill>
                  <a:srgbClr val="000000"/>
                </a:solidFill>
                <a:latin typeface="Calibri"/>
              </a:rPr>
              <a:t>;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2nd_stage/tlacom/en/</a:t>
            </a:r>
            <a:endParaRPr b="0" lang="en-US" sz="25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ost drugs have a milk-to-plasma ratio of 1 or less. The neonatal exposure is often 0.5% to 4% of the maternal dose, but infant drug metabolism may be impaired, and much of the data is from single maternal dose studies rather than chronic therapy. A safe level of infant exposure to a drug has been arbitrarily defined as no more than 10% of the therapeutic dose for infants (or the adult dose standardised by weight if the infant dose is not known). Until about the third to fourth postpartum day only very small amounts of colostrum are secreted, so early breastfeeding is unlikely to pose a hazard, even from drugs administered in the peripartum perio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ctating women having surgical procedures with general anaesthetic have been advised to discard their milk for 24 hours following the operation.</a:t>
            </a:r>
            <a:endParaRPr b="0" lang="en-US" sz="1200" spc="-1" strike="noStrike">
              <a:solidFill>
                <a:srgbClr val="000000"/>
              </a:solidFill>
              <a:latin typeface="Calibri"/>
            </a:endParaRPr>
          </a:p>
        </p:txBody>
      </p:sp>
      <p:sp>
        <p:nvSpPr>
          <p:cNvPr id="10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an anti-inflammatory is required, NSAIDs are preferable to aspirin. Despite similar proportional transfer as paracetamol, salicylates are eliminated slowly by the neonate, cause platelet dysfunction and have been associated with Reye’s syndrome; aspirin in analgesic doses cannot be recommended as safe. TCAs have been used to treat postnatal depression. Avoid doxepin if possible; a single case of neonatal respiratory depression has been reported</a:t>
            </a:r>
            <a:endParaRPr b="0" lang="en-US" sz="1200" spc="-1" strike="noStrike">
              <a:solidFill>
                <a:srgbClr val="000000"/>
              </a:solidFill>
              <a:latin typeface="Calibri"/>
            </a:endParaRPr>
          </a:p>
        </p:txBody>
      </p:sp>
      <p:sp>
        <p:nvSpPr>
          <p:cNvPr id="1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1560" y="830160"/>
            <a:ext cx="4367160" cy="3275280"/>
          </a:xfrm>
          <a:prstGeom prst="rect">
            <a:avLst/>
          </a:prstGeom>
          <a:ln w="0">
            <a:noFill/>
          </a:ln>
        </p:spPr>
      </p:sp>
      <p:sp>
        <p:nvSpPr>
          <p:cNvPr id="1006"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ute pain is a symptom of a biological function, alerting a person to tissue injury or impending harm. Chronic pain is not just prolonged acute pain. Chronic pain is a result of changes in the nervous system called remodeling. The nervous system is changed physiochemically in both its structure and function in a way that is dysfunctional. The original cause of the pain may be gone. The changes in the nervous system can be permanent and may have no cure. Chronic pain is generally best managed using a disease management model (e.g., exercise, sleep, judicious use of medications, cognitive-behavioral therapy, good nutrition, etc.).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ncreasing cancer survivorship in some parts of the world has led to a new challenge of the clinical problem of chronic pain in cancer patients. Chronic pain can result from cancer treatments including surgery, chemotherapy, radiation, and other treatments. Shifting from a palliative cancer pain model to a functional restoration model that includes medication along with rehabilitation and psychological coping strategies may lead to better outcomes. </a:t>
            </a: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52360" y="692280"/>
            <a:ext cx="4554720" cy="3416040"/>
          </a:xfrm>
          <a:prstGeom prst="rect">
            <a:avLst/>
          </a:prstGeom>
          <a:ln w="0">
            <a:noFill/>
          </a:ln>
        </p:spPr>
      </p:sp>
      <p:sp>
        <p:nvSpPr>
          <p:cNvPr id="1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Melding PS. </a:t>
            </a:r>
            <a:r>
              <a:rPr b="0" i="1" lang="en-US" sz="1200" spc="-1" strike="noStrike">
                <a:solidFill>
                  <a:srgbClr val="000000"/>
                </a:solidFill>
                <a:latin typeface="Verdana"/>
              </a:rPr>
              <a:t>Pain </a:t>
            </a:r>
            <a:r>
              <a:rPr b="0" lang="en-US" sz="1200" spc="-1" strike="noStrike">
                <a:solidFill>
                  <a:srgbClr val="000000"/>
                </a:solidFill>
                <a:latin typeface="Verdana"/>
              </a:rPr>
              <a:t>1991;46:119-121.</a:t>
            </a: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Gagliese L. </a:t>
            </a:r>
            <a:r>
              <a:rPr b="0" i="1" lang="en-US" sz="1200" spc="-1" strike="noStrike">
                <a:solidFill>
                  <a:srgbClr val="000000"/>
                </a:solidFill>
                <a:latin typeface="Verdana"/>
              </a:rPr>
              <a:t>J of Pain </a:t>
            </a:r>
            <a:r>
              <a:rPr b="0" lang="en-US" sz="1200" spc="-1" strike="noStrike">
                <a:solidFill>
                  <a:srgbClr val="000000"/>
                </a:solidFill>
                <a:latin typeface="Verdana"/>
              </a:rPr>
              <a:t>2009;19(4):343-353.</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e age there are extensive alterations in structure, neurochemistry and function of both peripheral and central nervous systems and some studies suggesting that pain symptoms and presentation may be less frequent or less severe in older adults. However the clinical implications of these changes are not fully understood. Studies looking at age-related changes in pain tolerance are limited but, in general and using a variety of experimental pain stimuli, there is a reduced ability in older people to endure or tolerate strong pain. This could mean that severe pain may have a greater impact on the more vulnerable older person. The following slides details some of the available information to counter common misconceptions about pain and pain management in the elder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bson SJ (2003) Pain and aging: the pain experience over the adult life span. In: Proceedings of the 10</a:t>
            </a:r>
            <a:r>
              <a:rPr b="0" lang="en-US" sz="1200" spc="-1" strike="noStrike" baseline="30000">
                <a:solidFill>
                  <a:srgbClr val="000000"/>
                </a:solidFill>
                <a:latin typeface="Calibri"/>
              </a:rPr>
              <a:t>th</a:t>
            </a:r>
            <a:r>
              <a:rPr b="0" lang="en-US" sz="1200" spc="-1" strike="noStrike">
                <a:solidFill>
                  <a:srgbClr val="000000"/>
                </a:solidFill>
                <a:latin typeface="Calibri"/>
              </a:rPr>
              <a:t> World Congress on Pain. Progress in Pain Research and Management edn. Dostrovsky JO, Carr DB and Koltzenburg M (eds). Seattle, IASP Press. 24: 767–90.</a:t>
            </a:r>
            <a:endParaRPr b="0" lang="en-US" sz="1200" spc="-1" strike="noStrike">
              <a:solidFill>
                <a:srgbClr val="000000"/>
              </a:solidFill>
              <a:latin typeface="Calibri"/>
            </a:endParaRPr>
          </a:p>
        </p:txBody>
      </p:sp>
      <p:sp>
        <p:nvSpPr>
          <p:cNvPr id="1105" name="PlaceHolder 2"/>
          <p:cNvSpPr>
            <a:spLocks noGrp="1"/>
          </p:cNvSpPr>
          <p:nvPr>
            <p:ph type="sldImg"/>
          </p:nvPr>
        </p:nvSpPr>
        <p:spPr>
          <a:xfrm>
            <a:off x="1152360" y="692280"/>
            <a:ext cx="4554720" cy="341604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152360" y="692280"/>
            <a:ext cx="4554720" cy="3416040"/>
          </a:xfrm>
          <a:prstGeom prst="rect">
            <a:avLst/>
          </a:prstGeom>
          <a:ln w="0">
            <a:noFill/>
          </a:ln>
        </p:spPr>
      </p:sp>
      <p:sp>
        <p:nvSpPr>
          <p:cNvPr id="1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Gibson SJ, Weiner DK. </a:t>
            </a:r>
            <a:r>
              <a:rPr b="0" i="1" lang="en-US" sz="1200" spc="-1" strike="noStrike">
                <a:solidFill>
                  <a:srgbClr val="000000"/>
                </a:solidFill>
                <a:latin typeface="Verdana"/>
              </a:rPr>
              <a:t>Pain in Older Adults</a:t>
            </a:r>
            <a:r>
              <a:rPr b="0" lang="en-US" sz="1200" spc="-1" strike="noStrike">
                <a:solidFill>
                  <a:srgbClr val="000000"/>
                </a:solidFill>
                <a:latin typeface="Verdana"/>
              </a:rPr>
              <a:t>. IASP Press, 2005.</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81160" y="374760"/>
            <a:ext cx="4572000" cy="3429000"/>
          </a:xfrm>
          <a:prstGeom prst="rect">
            <a:avLst/>
          </a:prstGeom>
          <a:ln w="0">
            <a:noFill/>
          </a:ln>
        </p:spPr>
      </p:sp>
      <p:sp>
        <p:nvSpPr>
          <p:cNvPr id="1109" name="PlaceHolder 2"/>
          <p:cNvSpPr>
            <a:spLocks noGrp="1"/>
          </p:cNvSpPr>
          <p:nvPr>
            <p:ph type="body"/>
          </p:nvPr>
        </p:nvSpPr>
        <p:spPr>
          <a:xfrm>
            <a:off x="447840" y="4122720"/>
            <a:ext cx="5962320" cy="4572000"/>
          </a:xfrm>
          <a:prstGeom prst="rect">
            <a:avLst/>
          </a:prstGeom>
          <a:solidFill>
            <a:srgbClr val="ffffff"/>
          </a:solidFill>
          <a:ln w="9360">
            <a:solidFill>
              <a:srgbClr val="000000"/>
            </a:solidFill>
            <a:miter/>
          </a:ln>
        </p:spPr>
        <p:txBody>
          <a:bodyPr lIns="89640" rIns="89640" tIns="45000" bIns="45000" anchor="t">
            <a:noAutofit/>
          </a:bodyPr>
          <a:p>
            <a:pPr lvl="2" marL="914400" indent="0">
              <a:lnSpc>
                <a:spcPct val="100000"/>
              </a:lnSpc>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Times New Roman"/>
              </a:rPr>
              <a:t>Pain in older patients is generally related to degenerative conditions of the bone, nervous and vascular systems. Common painful conditions in older adults includ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ow back pain from facet joint arthritis and spondylos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Osteoarthrit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Osteoporos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revious bone fractur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Rheumatoid arthrit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olymyalgia rheumatic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aget’s diseas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eripheral neuropathi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Neuropathic pain associated with strok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Shingles, postherpetic neuralgi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Diabet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Trigeminal neuralgi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Nutritional neuropathi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eripheral vascular diseas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Coronary artery disease</a:t>
            </a: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52360" y="692280"/>
            <a:ext cx="4554720" cy="341604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idimensional measures used in younger adult populations, and which have been shown to be appropriate for use in the older patient, include the verbal numerical rating scale (VNRS), Faces Pain Scales (FPC), verbal descriptor scale (VDS) and the numerical rating scale (NRS; a calibrated VAS), with more support for use of the VAS. In a comparison of five pain scales — VAS, VNRS, NRS, VDS and FPS — all the scales could effectively discriminate different levels of pain sensation in older people. However the VDS was the most sensitive and reliable and considered to be the best choice in the older adult, including those with mild-to-moderate cognitive impairment, although it ranked second to the NRS for patient prefere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Geriatric Society. Pharmacologic management of persistent pain in older persons, </a:t>
            </a:r>
            <a:r>
              <a:rPr b="0" i="1" lang="en-US" sz="1200" spc="-1" strike="noStrike">
                <a:solidFill>
                  <a:srgbClr val="000000"/>
                </a:solidFill>
                <a:latin typeface="Calibri"/>
              </a:rPr>
              <a:t>JAGS</a:t>
            </a:r>
            <a:r>
              <a:rPr b="0" lang="en-US" sz="1200" spc="-1" strike="noStrike">
                <a:solidFill>
                  <a:srgbClr val="000000"/>
                </a:solidFill>
                <a:latin typeface="Calibri"/>
              </a:rPr>
              <a:t> 2009;57:1331-134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152360" y="692280"/>
            <a:ext cx="4554720" cy="3416040"/>
          </a:xfrm>
          <a:prstGeom prst="rect">
            <a:avLst/>
          </a:prstGeom>
          <a:ln w="0">
            <a:noFill/>
          </a:ln>
        </p:spPr>
      </p:sp>
      <p:sp>
        <p:nvSpPr>
          <p:cNvPr id="1113"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ssessment of pain in non-communicative patients is more difficult. Behaviours such as restlessness, frowning, and grimacing or sounds such as grunting or groaning have been u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ttempts to assess pain severity. In cognitively intact adults some of these behaviours have been shown to correlate reasonably well with patient self-report of pain (Bell, 1997 ). Howev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may not always be valid indicators of pain in the non-verbal adult (Farrell et al, 1996 ) and can be difficult to interpret (Herr et al, 2006 ). Observations of facial expressions and sounds may be accurate measures of the presence of pain but not pain intensity in patients with advanced dementia (Herr et al, 2006 ). More than 20 different observational pain assessment scales have been developed and used in patients with varying degrees of dementia. Examples include: Faces Pain Scales (Herr et al, 2004 ); Abbey Pain Scale (Abbey et al, 2004 ), Pain Assessment in Advanced Dementia (PAINAD, a simple, reliable and validated five-item observational tool) (Warden et al, 2003 ; Leong et al, 2006 ), Pain Assessment Checklist for Seniors with Limited Ability to Communicate (PACSLAC) (Fuchs-Lacelle &amp; Hadjistavropoulos, 2004 ) and Mobilization-Observation-Behavior-Intensity-Dementia Pain Scale (MOBID) (Husebo et al, 2007 ). For a more detailed and critical review of 10 pain-assessment tools for use with non-verbal adults see Herr et al (Herr et al, 2006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absence of self-report, observation of behavior is a valid approach to pain assessment. The City of Hope in Duarte, California maintains a list of validated behavior pain assessment tools at http://prc.coh.org/PAIN-NOA.htm including information about the known validity and reliability of each instrument and the population it was studied in. Although weak to moderate correlations have been found between behavioral pain scores and the self-report of pain intensity, these two means should not be considered to be equivalent. Also, sleep and sedation do not equate with the absence of pain or with pain relief. </a:t>
            </a: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152360" y="692280"/>
            <a:ext cx="4554720" cy="3416040"/>
          </a:xfrm>
          <a:prstGeom prst="rect">
            <a:avLst/>
          </a:prstGeom>
          <a:ln w="0">
            <a:noFill/>
          </a:ln>
        </p:spPr>
      </p:sp>
      <p:sp>
        <p:nvSpPr>
          <p:cNvPr id="1115"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ssessment of pain in non-communicative patients is more difficult. Behaviours such as restlessness, frowning, and grimacing or sounds such as grunting or groaning have been u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ttempts to assess pain severity. In cognitively intact adults some of these behaviours have been shown to correlate reasonably well with patient self-report of pain (Bell, 1997 ). Howev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may not always be valid indicators of pain in the non-verbal adult (Farrell et al, 1996 ) and can be difficult to interpret (Herr et al, 2006 ). Observations of facial expressions and sounds may be accurate measures of the presence of pain but not pain intensity in patients with advanced dementia (Herr et al, 2006 ). More than 20 different observational pain assessment scales have been developed and used in patients with varying degrees of dementia. Examples include: Faces Pain Scales (Herr et al, 2004 ); Abbey Pain Scale (Abbey et al, 2004 ), Pain Assessment in Advanced Dementia (PAINAD, a simple, reliable and validated five-item observational tool) (Warden et al, 2003 ; Leong et al, 2006 ), Pain Assessment Checklist for Seniors with Limited Ability to Communicate (PACSLAC) (Fuchs-Lacelle &amp; Hadjistavropoulos, 2004 ) and Mobilization-Observation-Behavior-Intensity-Dementia Pain Scale (MOBID) (Husebo et al, 2007 ). For a more detailed and critical review of 10 pain-assessment tools for use with non-verbal adults see Herr et al (Herr et al, 2006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absence of self-report, observation of behavior is a valid approach to pain assessment. The City of Hope in Duarte, California maintains a list of validated behavior pain assessment tools at http://prc.coh.org/PAIN-NOA.htm including information about the known validity and reliability of each instrument and the population it was studied in. Although weak to moderate correlations have been found between behavioral pain scores and the self-report of pain intensity, these two means should not be considered to be equivalent. Also, sleep and sedation do not equate with the absence of pain or with pain relief. </a:t>
            </a: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general there is limited evidence about the use of analgesic medications in older patients. Age, comorbidities, or concurrent medications need to be taken into consideration when a choice of analgesic regimen is mad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are more likely to suffer adverse gastric and renal side effects following administration of NSAIDs and may also be more likely to develop cognitive dysfunction. NSAIDs can be a was a significant risk factor for renal function deterior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require less opioid than younger patients to achieve the same degree of pain relief, however, a large interpatient variability still exists and doses must be titrated to effect in all patients. Reduced renal function in the older patient could lead to a more rapid accumulation of active opioid metabolites (eg M6G, M3G, hydromorphone-3-glucuronide, nordextropropoxyphene, norpethidine, desmethyl-tramado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eople may be particularly prone to the side effects of triclyclic antidepressants (TCAs) including sedation, confusion, orthostatic hypotension, dry mouth, constipation, urinary retention and gait disturbances which may increase the risk of falls. Adverse effects appear to be most common with amitriptyline and nortriptyline may be preferred in this patient group. In addition, clinical conditions that may require TCAs to be administered with caution are more common in older people and include prostatic hypertrophy, narrow angle glaucoma, CV disease and impaired liver function; ECG abnormalities may be a contraindication to the use of TCAs in older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ith TCAs, initial doses of anticonvulsant agents should be lower than for younger patients and any increases in dose should be titrated slowly. As renal function declines with increasing age, elimination of gabapentin and pregabalin may be reduced and lower doses will be required. The ‘second generation’ drugs such as gabapentin and topiramate may be less likely to resul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verse effects in the older patient . The relatively high frequency of side effects such as somnolence and dizziness with pregabalin may be a problem in this group of patients. However, other features of gabapentin and pregabalin, such as a lower risk of drug-drug interactions should be considered.</a:t>
            </a:r>
            <a:endParaRPr b="0" lang="en-US" sz="1200" spc="-1" strike="noStrike">
              <a:solidFill>
                <a:srgbClr val="000000"/>
              </a:solidFill>
              <a:latin typeface="Calibri"/>
            </a:endParaRPr>
          </a:p>
        </p:txBody>
      </p:sp>
      <p:sp>
        <p:nvSpPr>
          <p:cNvPr id="1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1560" y="830160"/>
            <a:ext cx="4367160" cy="3275280"/>
          </a:xfrm>
          <a:prstGeom prst="rect">
            <a:avLst/>
          </a:prstGeom>
          <a:ln w="0">
            <a:noFill/>
          </a:ln>
        </p:spPr>
      </p:sp>
      <p:sp>
        <p:nvSpPr>
          <p:cNvPr id="1008"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oints out the broad differences between acute and chronic pain. Acute pain is a symptom of a biological function, alerting a person to tissue injury or impending harm. Chronic pain is not just prolonged acute pain. Chronic pain is a result of changes in the nervous system called remodeling. Whereas the focus of acute pain management tends to be simpler, chronic pain assessment and treatment is more complex and multidimensional. There may be no cure for chronic pain and like many diseases it is difficult to point to the exact cause and successful management requires treatment that is not limited to drug therapy. Chronic pain is generally best managed using a disease management model (e.g., exercise, sleep, judicious use of medications, cognitive-behavioral therapy, good nutrition, etc.). </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general there is limited evidence about the use of analgesic medications in older patients. Age, comorbidities, or concurrent medications need to be taken into consideration when a choice of analgesic regimen is mad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are more likely to suffer adverse gastric and renal side effects following administration of NSAIDs and may also be more likely to develop cognitive dysfunction. NSAIDs can be a was a significant risk factor for renal function deterior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require less opioid than younger patients to achieve the same degree of pain relief, however, a large interpatient variability still exists and doses must be titrated to effect in all patients. Reduced renal function in the older patient could lead to a more rapid accumulation of active opioid metabolites (eg M6G, M3G, hydromorphone-3-glucuronide, nordextropropoxyphene, norpethidine, desmethyl-tramado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eople may be particularly prone to the side effects of triclyclic antidepressants (TCAs) including sedation, confusion, orthostatic hypotension, dry mouth, constipation, urinary retention and gait disturbances which may increase the risk of falls. Adverse effects appear to be most common with amitriptyline and nortriptyline may be preferred in this patient group. In addition, clinical conditions that may require TCAs to be administered with caution are more common in older people and include prostatic hypertrophy, narrow angle glaucoma, CV disease and impaired liver function; ECG abnormalities may be a contraindication to the use of TCAs in older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ith TCAs, initial doses of anticonvulsant agents should be lower than for younger patients and any increases in dose should be titrated slowly. As renal function declines with increasing age, elimination of gabapentin and pregabalin may be reduced and lower doses will be required. The ‘second generation’ drugs such as gabapentin and topiramate may be less likely to resul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verse effects in the older patient . The relatively high frequency of side effects such as somnolence and dizziness with pregabalin may be a problem in this group of patients. However, other features of gabapentin and pregabalin, such as a lower risk of drug-drug interactions should be considered.</a:t>
            </a:r>
            <a:endParaRPr b="0" lang="en-US" sz="1200" spc="-1" strike="noStrike">
              <a:solidFill>
                <a:srgbClr val="000000"/>
              </a:solidFill>
              <a:latin typeface="Calibri"/>
            </a:endParaRPr>
          </a:p>
        </p:txBody>
      </p:sp>
      <p:sp>
        <p:nvSpPr>
          <p:cNvPr id="1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bservable signs of pain such as changes in vital signs (e.g., increased heart rate, blood pressure) or behavior (e.g., grimacing, limping) may be present in acute pain, but these signs are often absent in chronic pain and are not reliable indicators of the presence or severity of pain. </a:t>
            </a:r>
            <a:r>
              <a:rPr b="0" lang="en-GB" sz="1200" spc="-1" strike="noStrike">
                <a:solidFill>
                  <a:srgbClr val="000000"/>
                </a:solidFill>
                <a:latin typeface="Calibri"/>
              </a:rPr>
              <a:t>The absence of abnormal findings on investigation does not mean that there are no abnormal physical components, but simply that the tests used did not detect any. There are several important physical changes that cause and perpetuate pain in the chronic situation, which cannot be detected by normal clinical investigations. Assessment should include a full history including physical and emotional functioning, previous and current treatments and their effects, and examination. Pain intensity ratings may represent idyosyncratic meanings rather than represent a discrete measure of intensity. When possible the underlying mechanisms should be identified so as to establish a pain diagnosis that will help determine the treatment plan. For example, in end stage osteoarthritis assistive aids such as canes or crutches may be benef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 C. Williams AC, Davies H, Chadury Y. Simple pain rating scales hide complex idiosyncratic meanings Pain 2000;852:457-46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1560" y="830160"/>
            <a:ext cx="4367160" cy="3275280"/>
          </a:xfrm>
          <a:prstGeom prst="rect">
            <a:avLst/>
          </a:prstGeom>
          <a:ln w="0">
            <a:noFill/>
          </a:ln>
        </p:spPr>
      </p:sp>
      <p:sp>
        <p:nvSpPr>
          <p:cNvPr id="101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ntroduces a case which will be woven through the rest of this present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55-year-old black female with a history of chronic back pain from a young adult. She complains of severe, constant low back without radiculopathy that interferes with work. She rates her pain today as 8 on a 0-10 numeric scale. The pain is axial with no radiculopathy. There are no findings on physical exam and imaging. She has been on chronic opioid therapy with morphine for the past 2 years with gradual increases in doses and little improvement in her function. She has declined a trial of an antidepressant. Her work at a farm requires frequent bending and lifting and to plant, weed and water crop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1560" y="830160"/>
            <a:ext cx="4367160" cy="3275280"/>
          </a:xfrm>
          <a:prstGeom prst="rect">
            <a:avLst/>
          </a:prstGeom>
          <a:ln w="0">
            <a:noFill/>
          </a:ln>
        </p:spPr>
      </p:sp>
      <p:sp>
        <p:nvSpPr>
          <p:cNvPr id="101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color coded pain diagram can be used to help assess pain. This slide shows a diagram completed by the patient which shows the quality and locations of pain. The patient reports transient severe aching pain in the central lower back with movement. She denies buttocks or leg pain. There are no bowel or bladder problems. The pain is made worse with standing and bending. The patient feels reports no specific muscle weakness. The more constant chronic pain is described primarily as tingling with numbness in the hands and feet. When asked her goals for pain treatment, the patient replies </a:t>
            </a:r>
            <a:r>
              <a:rPr b="0" lang="ja-JP" sz="1200" spc="-1" strike="noStrike">
                <a:solidFill>
                  <a:srgbClr val="000000"/>
                </a:solidFill>
                <a:latin typeface="Arial"/>
              </a:rPr>
              <a:t>“</a:t>
            </a:r>
            <a:r>
              <a:rPr b="0" i="1" lang="en-US" sz="1200" spc="-1" strike="noStrike">
                <a:solidFill>
                  <a:srgbClr val="000000"/>
                </a:solidFill>
                <a:latin typeface="Calibri"/>
              </a:rPr>
              <a:t>Get rid of my pain.</a:t>
            </a:r>
            <a:r>
              <a:rPr b="0" lang="ja-JP" sz="1200" spc="-1" strike="noStrike">
                <a:solidFill>
                  <a:srgbClr val="000000"/>
                </a:solidFill>
                <a:latin typeface="Arial"/>
              </a:rPr>
              <a:t>”</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amison RN, Fanciullo GJ, Baird JC. Usefulness of pain drawings in identifying real or imagined pain: accuracy of pain professionals, nonprofessionals, and a decision model. J of Pain 2004;5(9):476-482.</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nzburg BM, Merskey H, Lau CL. The relationship between pain drawings and the psychological state. Pain 1988;35(2):141-146.</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197BD7-D472-4CA9-8683-0DAC824DB7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80EFC-2BFE-4E85-9D69-C638BA1F8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D2DF5C-3CDC-4699-BED3-CDA9921D89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3BC57C-7FFC-4066-858C-D5B45032A2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4E6916-761F-4AE5-AFF1-FEEAE8BA2F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3B0B99-8A7A-47E4-B96E-D57A7D1931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891349-F762-4CC0-A417-976F8E07CA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3E1846-0283-4412-B29B-025506150B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232D8C-14D1-430C-BC83-22850119A0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B2779B-8851-4055-BB79-E7C7FBD549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CF0433-D31D-4308-82E9-50B97EA048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595C39-D65E-4D1D-8FF6-5A6EAAEB92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71C38-0DC2-412B-9BA3-417A80A137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2390EC-4E9C-400B-AF56-8BDFEDDF1A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F4404F-4D14-4FAD-A8F3-A50805B027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C7C62C-F6D7-41FF-9409-5834BC0CDA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1580D8-D81E-41C8-ACE2-75F87976A3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5BAD05-355A-41C7-8072-ECCBE5993C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606ADF-C909-44CD-AA27-8AA6D306E9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565C34-9965-4EB9-88D9-9CBD385AD2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AD0A69-39C6-45C2-89F5-53154C34E4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9F3650-9965-419C-B4FE-EA68B44DE9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A427E13-A0D0-45EF-9CD6-393456B2D3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3ABD5-D780-4A13-94E1-BA0A333A88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8A1FA7-CCE8-4147-BC32-3A4DAF97DF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593874-C489-4199-A210-7DCC862AAB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E59B9D-8F4A-48D1-8132-769CD70118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9D10AE-6ADE-4015-B402-826D429B13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7B0E14-61CD-4B0B-83B5-B61EA41825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DF9C07-0AC4-4842-941D-7F6411CE0D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E30760-09A7-457C-A551-872662A849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0E584F-A5A9-4F32-9E88-A445CD30C4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00C817-A2D3-4461-A459-18B1CCE275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FB4B4A-68E5-42F6-9171-0A0AB9BE0B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56B61D-02C0-4519-931C-E1F386C11C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D5E220-A606-4ACA-BC42-0F712E3A9B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D9E153-AA49-4207-A15E-53859318D4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86089D3-41A0-4250-A369-1E8A828E7F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F85724-DC01-48E8-9887-9684EB88C4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428946-FC22-49C7-97DA-74C78E6A10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6E63B6-BC7A-4876-8053-FFF3A1E605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DDE86D-32F9-43F7-A69C-4967341398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695759-FFFF-4739-8050-5219579B1D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CA1894-600B-4BCE-BB19-7A2570ABAB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D49A89-6212-42E5-AB2E-CDF91146BF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D9EC91-4F2F-4431-A411-B326BF0795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1D2425-1991-4FC1-9D49-4FA18EADC9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1D7D21-6507-4E0D-9525-D3D21752618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89C00A0-923A-46A7-B6B0-CC522970C4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F441022-399D-4816-A45F-7F06C294D05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D313962-E587-4F13-8156-DEC37531CB4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7456708-D1BC-42E7-B659-9B5741CA9E9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3D09556-DD7A-4E6A-BF55-A7597EA4B74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2AEAE4A-DDF6-4837-BE55-F94D1F85330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6D9AC00-26D5-43D9-BD19-243515D01D0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E975B0-4544-49DD-9AD6-26307C979B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A03167F-575A-4C4A-9A2E-1672042E22D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8A2FB2F-9884-4689-B8FB-5C3043AB4E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EA19F63-051E-4854-82CB-0610341EBBF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F4C774C-34CB-4E4E-BE65-206D50239C4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6E21DC5-0E6B-4C11-90CE-A2ACD3C6125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AAE6D05-BBB2-49D6-854F-C6C8744F8EB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2C55525-ABCA-419E-9B95-66CF3C27BB9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66EC547-5AFC-4408-9446-41F6B497619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AD52DB0-15D0-412D-A063-47C9AE84565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FBFBA0D-ADDD-4E24-9757-A110617BDB0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6306224-66A8-4DA2-8024-1A4CF34F7EA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542F42-9DA9-4074-8DE6-50BFF2AF93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F0A30F-D76F-455B-BF45-F301A742FE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0A7AA7-2596-433B-9A0D-BD6B821BEC7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F790164-1217-47C6-A6A1-16DB2210A91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64F520F-125B-4A39-BBB5-7526AFB083B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38AF306-3227-4AF3-9A94-DE6C2399A03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0B08B6B-4A99-4F76-936F-7BF5A6DDBDD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2EDCF56-626D-4F45-AC76-826ADE408C5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F26B838-E532-4E56-97F9-71CB6DE20A4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8DC5FA0-B0A2-45AE-84B8-14F88CEA40E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2F37821-C629-4194-B803-C266004A366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2C84B09-52A2-4D0D-8D1F-0C9039E709C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E2D8596-78C9-4166-9849-EEBF57A1E7C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1EEA087-3E83-4492-AB2E-26B559D936A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BA7ACDA-4D72-4F45-BCA4-DF17947577A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4573C1C-8A52-4293-9B14-CEF574AB703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0311500-5D97-406C-B312-F6DE76546D6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5EC53BD-FF97-4E90-99C2-153EDFFE5B7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87151E6-9A80-4A4C-8B44-C1B5B491797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112F252-8609-4A0C-9FC6-027E31F52AE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D03FA5D-B34F-480B-99B5-EFB13D9912B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D2F34AE-ACF9-4D04-A494-5CD784EB8BD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9F7EB28-6806-4ACF-839E-E7DE3BBE024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4C91151-F947-443C-8218-48431CE228E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5BD2EDC-D85B-4F65-A34E-047408F7F8B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7370C-6C0F-412E-A3F4-2A01D5343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216D86E-1CD8-4FA0-8B8C-B05A9555A3E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4B94B35-F62D-40DA-A853-4B9370DA26C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161182B-5E72-41A2-966A-E4E20273E64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67DD2D8-9479-4025-9B59-E8F74500A78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6AC9499-81A8-4D4A-A230-FE6E297587E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E79CE7A-261F-4DCE-A31A-3C5502C50C0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94D4BB2-A874-470A-8A87-0D7A452A741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AEABB0D-7EBB-4656-ABFC-7B16D5EDA06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EB2F386-1B40-4E86-A451-A014D3DD1FC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171D0A5-01CB-470F-9EC7-652050A18AB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9001FF2-9582-461F-9D13-B0875416CA3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2C33E1B-5B3C-49E5-AD5E-7A943BBFDFA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807A920-85E1-4BE6-9493-44C220E692A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81B5635-E4E7-4DF1-AB64-F81B30C9F9C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3A1AEE9-7F15-480A-865E-6122AC0D0D5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729CBB0-8C36-425D-8E09-F994F64C6C8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9C9EA5D-01B0-454A-BDBE-E9581AEB6F9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B86C222-ADD2-4451-A54C-6601ECBCC4E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04962D9-D084-49F9-810A-D2B7AF36E7C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AA678B0-FF2C-41A6-987C-E17587553AE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125C296-E1C3-4075-A755-718B631A93E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3894C77-3AFB-40E8-BAE5-083C6F5B2CE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13C54CE-42CA-40D8-84AF-68D28FB364A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A0DA639-1BA6-4E83-8D01-F9F5252A5FE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2B2CD89-FACD-40A0-9D8F-6E2A51452E0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2CB4D96-CA7B-42AA-89EB-72CFE94FECC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E84E751-F03B-4BB5-86B4-F2B92EB1AB3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6538E01-1F97-4DB6-90A8-C9680ECD953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F937E35-D5EB-4196-A9B7-599D756000B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DEF45E6-DF4E-45B3-A3AD-8E20045F33C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EABCE9D-5641-4B92-8A24-5D4B905207F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108E104-2A9D-4943-BF8E-97A93D298DB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C7880A8-3290-41C2-8C48-4D3D136A41A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7F9D093-F60D-4C0C-B9B5-E1AF43EF7FA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7461B3B-3058-4878-AC7D-CD73DA9FF4A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968815C-AFDD-4E36-A20E-AC56692C885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D074A0B-1592-4FEB-AC6C-36F1D7F879C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D8EA528-5AA3-440A-803D-98803CE096E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1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FAD1EF5-B397-42D7-AE47-AF0DDF8EDFF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FDE7337-0C11-4DC7-8A93-B19CCDCDB62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2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839FDEF-7270-4EB1-AF91-26A3473156B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9D54E-7F46-4E9E-A749-FDA7B339E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83545-EF61-4965-9461-88C6D2A2D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346DFD-C1E9-482B-BBF8-A0B7874B83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C9107-E022-460F-9483-7F4BF2768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783A85-C776-46A1-BE7F-6D5A45762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B6E55A-9032-4974-BEEA-0BEDC8C152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00290C-E14A-4C52-BDCD-80649533F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2D62A7-25B9-4D66-9D26-94FAB64C93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5CE232-243E-4954-BAD6-37EF96555D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7EE90-AD6E-4EB4-A80F-0B1EC8A90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9B2DB-A4BB-4273-B6D4-419651011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4C5F0-1757-4808-BDF5-D600783F9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B9219B-C5AC-4D74-AD01-2CAEBDC42D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E9BDEC-6547-4D2C-B4E6-B6FE0A6DCE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AFD1F-03D0-4DB5-9A62-376CD4AB7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48CD90-2228-4CF6-9AFA-F448FE1C99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61576F-DC05-4F6D-B2F3-A6D12C6613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4B467A-65C0-49D3-B4DF-1C9C8BDCDC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634C19-A0FC-4912-8A8C-173BEBB9BD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9256A6-30EA-4052-9A7F-567D36918D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143A17-D775-4DFF-A3AB-5A49A38537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F3C583-3F35-4B0B-97A8-F513512DC3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4A151B-ECEA-4876-BEE7-2E5AA4353A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E5F3D1-4D80-4914-9D0A-114550FFA8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8BA240-CE49-4C57-B4FC-5E11026A90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5635D-1D5A-4CA3-A052-54F9763E8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97AC9A-E0D6-4E3A-820C-556E9AADF5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ABAD40-9ABA-47C7-914A-27D6BD79BA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977E16-A914-4F4C-883E-B75B46BCD8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41B663-ABEE-4B9D-90D5-9EF260076B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ED8579-01C2-465A-83FF-1978671593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5EEBB3-D1CE-4853-8A7C-F408AE2686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4F0C0C-8950-4943-8EE5-BA43BB96FB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725599-9A29-4732-B3DA-F958C6170C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4E5E99-B843-44CF-B220-DC3126C267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50B00F-8B5A-486A-873D-A9B08473AA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DA91B-CD8F-4867-93BF-FAE9236C9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D00A52-4535-4DE8-8165-C0DBA97484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FB74AA-7A4A-4E38-8637-D20D16F47E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DBDB20-E1A4-47EC-BBFA-CC9575B06B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9D1511-152E-4D7F-A90C-2C689B2C1E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36403C-7407-45CB-A53F-30CB45963F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D47824-2B87-4E7B-9D6C-96F0B94065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B1FF9E-0FD5-491C-B7DF-52B143B524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4A0D66-40C7-489E-8872-DFEEA3EB4D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1DCA6A-3409-4F5B-9452-76C60AEE85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ADDD5D-5E3C-4CEB-8822-4DCF68E300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F0046-4486-4CCD-AF27-796EE7EBF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127F49-FCC1-421E-9567-4EC3490D45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DE51B4-16CF-419C-AB17-FDCACE12B3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0F175E-AA47-4B9B-BAA8-DDC8214B87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D412F8-C8F6-41E3-AF9E-F8D4ED9F1D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8457C2-FBC3-4BF1-A708-00D2F2F400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47E239-DB5C-465C-BE6A-74F3796988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D50A4D-080D-417B-B411-0029232D98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E4E708-A8FB-40B7-A9CD-87FAAE5569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91F6AB-E189-4176-902A-FF62642F9C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B6CEAD-54C6-48C5-B21B-650489920753}"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38A019-3626-4542-98C4-245BA718607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8"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79"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80"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0C8ECF-B30F-4BB5-93C6-51A48A15091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1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0"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1"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22"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85114C-FC3E-4234-B1EA-DDE9E94510C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2"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3"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64"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D4C06E-AA0E-4CC7-AF02-9FF4BAD94BD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4"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5"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06"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D06607-07A4-43DF-B143-22512C7C991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46" name="PlaceHolder 3"/>
          <p:cNvSpPr>
            <a:spLocks noGrp="1"/>
          </p:cNvSpPr>
          <p:nvPr>
            <p:ph type="dt" idx="4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47" name="PlaceHolder 4"/>
          <p:cNvSpPr>
            <a:spLocks noGrp="1"/>
          </p:cNvSpPr>
          <p:nvPr>
            <p:ph type="ftr" idx="4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48" name="PlaceHolder 5"/>
          <p:cNvSpPr>
            <a:spLocks noGrp="1"/>
          </p:cNvSpPr>
          <p:nvPr>
            <p:ph type="sldNum" idx="4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5F6207-D14A-4D24-9F95-A2894398487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8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87" name="PlaceHolder 3"/>
          <p:cNvSpPr>
            <a:spLocks noGrp="1"/>
          </p:cNvSpPr>
          <p:nvPr>
            <p:ph type="dt" idx="46"/>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88" name="PlaceHolder 4"/>
          <p:cNvSpPr>
            <a:spLocks noGrp="1"/>
          </p:cNvSpPr>
          <p:nvPr>
            <p:ph type="ftr" idx="4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89" name="PlaceHolder 5"/>
          <p:cNvSpPr>
            <a:spLocks noGrp="1"/>
          </p:cNvSpPr>
          <p:nvPr>
            <p:ph type="sldNum" idx="4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E1A550-B916-45B1-9597-3474D96E4D1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7F5F9D-9EA7-4A56-886B-8A3147CDF20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4301EF-2C6C-4C86-9445-A41E4FBA7C1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87D51F-679A-4C2E-AFEF-CDB5DCDEF7A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dictors of Pain Chronicity</a:t>
            </a:r>
            <a:endParaRPr b="0" lang="en-US" sz="3200" spc="-1" strike="noStrike">
              <a:solidFill>
                <a:srgbClr val="333333"/>
              </a:solidFill>
              <a:latin typeface="Open Sans Semibold"/>
            </a:endParaRPr>
          </a:p>
        </p:txBody>
      </p:sp>
      <p:graphicFrame>
        <p:nvGraphicFramePr>
          <p:cNvPr id="862" name=""/>
          <p:cNvGraphicFramePr/>
          <p:nvPr/>
        </p:nvGraphicFramePr>
        <p:xfrm>
          <a:off x="777960" y="1387440"/>
          <a:ext cx="7586640" cy="3382920"/>
        </p:xfrm>
        <a:graphic>
          <a:graphicData uri="http://schemas.openxmlformats.org/drawingml/2006/table">
            <a:tbl>
              <a:tblPr/>
              <a:tblGrid>
                <a:gridCol w="3313080"/>
                <a:gridCol w="4273560"/>
              </a:tblGrid>
              <a:tr h="368280">
                <a:tc gridSpan="2">
                  <a:txBody>
                    <a:bodyPr lIns="84240" rIns="84240" tIns="46800" bIns="46800" anchor="ctr">
                      <a:noAutofit/>
                    </a:bodyPr>
                    <a:p>
                      <a:pPr algn="ct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Sociodemographic, Clinical &amp; Psychological Factors</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hMerge="1">
                  <a:txBody>
                    <a:bodyPr lIns="90000" rIns="90000" tIns="45000" bIns="45000" anchor="t">
                      <a:noAutofit/>
                    </a:bodyPr>
                    <a:p>
                      <a:endParaRPr b="0" lang="en-US" sz="1800" spc="-1" strike="noStrike">
                        <a:solidFill>
                          <a:srgbClr val="1a1a1a"/>
                        </a:solidFill>
                        <a:latin typeface="Arial"/>
                      </a:endParaRPr>
                    </a:p>
                  </a:txBody>
                  <a:tcPr anchor="t" marL="90000" marR="90000">
                    <a:lnL>
                      <a:noFill/>
                    </a:lnL>
                    <a:lnR>
                      <a:noFill/>
                    </a:lnR>
                    <a:lnT>
                      <a:noFill/>
                    </a:lnT>
                    <a:lnB>
                      <a:noFill/>
                    </a:lnB>
                    <a:solidFill>
                      <a:srgbClr val="729fcf"/>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Age &gt; 50</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Fear avoidance</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revious history of back pai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Catastrophising</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Nerve root pai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ain behaviour (non-physical illness behaviour)</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ain intensity / functional disability</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Job dissatisfactio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oor perception of general health</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Duration of sickness absence</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Distress &amp; depressio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Expectations about return to work</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Transition from Acute to Chronic Pain</a:t>
            </a:r>
            <a:br>
              <a:rPr sz="2900"/>
            </a:br>
            <a:endParaRPr b="0" lang="en-US" sz="2900" spc="-1" strike="noStrike">
              <a:solidFill>
                <a:srgbClr val="333333"/>
              </a:solidFill>
              <a:latin typeface="Open Sans Semibold"/>
            </a:endParaRPr>
          </a:p>
        </p:txBody>
      </p:sp>
      <p:sp>
        <p:nvSpPr>
          <p:cNvPr id="86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cumulative trauma exposure (LBP)</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cute pain intensity, duration, and disabil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level of education, female sex, older 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early use of prescription opioids (acute LBP)</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negative beliefs on chronic pain </a:t>
            </a:r>
            <a:br>
              <a:rPr sz="2400"/>
            </a:br>
            <a:r>
              <a:rPr b="0" lang="en-GB" sz="2400" spc="-1" strike="noStrike">
                <a:solidFill>
                  <a:srgbClr val="1a1a1a"/>
                </a:solidFill>
                <a:latin typeface="Open Sans"/>
              </a:rPr>
              <a:t>severity &amp; disabil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high baseline fear, anxiety, depress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repeated environmental stres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edicting Facto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ces in Pain Treatment</a:t>
            </a:r>
            <a:endParaRPr b="0" lang="en-US" sz="3200" spc="-1" strike="noStrike">
              <a:solidFill>
                <a:srgbClr val="333333"/>
              </a:solidFill>
              <a:latin typeface="Open Sans Semibold"/>
            </a:endParaRPr>
          </a:p>
        </p:txBody>
      </p:sp>
      <p:sp>
        <p:nvSpPr>
          <p:cNvPr id="867"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u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l-treatment mode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imary goal: Reduce pain intensity</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 chronic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enerally successfu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nds when pain resolves</a:t>
            </a:r>
            <a:endParaRPr b="0" lang="en-US" sz="2200" spc="-1" strike="noStrike">
              <a:solidFill>
                <a:srgbClr val="1a1a1a"/>
              </a:solidFill>
              <a:latin typeface="Open Sans"/>
            </a:endParaRPr>
          </a:p>
        </p:txBody>
      </p:sp>
      <p:sp>
        <p:nvSpPr>
          <p:cNvPr id="868"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habilitation-disease management mode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imary goal: Improve function</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logical</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cia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must actively participat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a:t>
            </a:r>
            <a:endParaRPr b="0" lang="en-US" sz="3200" spc="-1" strike="noStrike">
              <a:solidFill>
                <a:srgbClr val="333333"/>
              </a:solidFill>
              <a:latin typeface="Open Sans Semibold"/>
            </a:endParaRPr>
          </a:p>
        </p:txBody>
      </p:sp>
      <p:sp>
        <p:nvSpPr>
          <p:cNvPr id="87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n-steroidal anti-inflammatory drugs (NSAIDs) and heat have not been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e has self-increased her morphine from 15mg (5 tablets a day) to doses of 45mg as often as every 3 h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e seems depres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leep is poo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mokes tobacco</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r mother was an alcoholic</a:t>
            </a:r>
            <a:endParaRPr b="0" lang="en-US" sz="2200" spc="-1" strike="noStrike">
              <a:solidFill>
                <a:srgbClr val="1a1a1a"/>
              </a:solidFill>
              <a:latin typeface="Open Sans"/>
            </a:endParaRPr>
          </a:p>
        </p:txBody>
      </p:sp>
      <p:sp>
        <p:nvSpPr>
          <p:cNvPr id="871" name="Rectangle 3"/>
          <p:cNvSpPr/>
          <p:nvPr/>
        </p:nvSpPr>
        <p:spPr>
          <a:xfrm>
            <a:off x="1175760" y="5562720"/>
            <a:ext cx="30841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Arial"/>
              </a:rPr>
              <a:t>Does the patient have a job?</a:t>
            </a:r>
            <a:endParaRPr b="0" lang="en-US" sz="1800" spc="-1" strike="noStrike">
              <a:solidFill>
                <a:srgbClr val="1a1a1a"/>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nalgesic Management</a:t>
            </a:r>
            <a:endParaRPr b="0" lang="en-US" sz="3200" spc="-1" strike="noStrike">
              <a:solidFill>
                <a:srgbClr val="333333"/>
              </a:solidFill>
              <a:latin typeface="Open Sans Semibold"/>
            </a:endParaRPr>
          </a:p>
        </p:txBody>
      </p:sp>
      <p:sp>
        <p:nvSpPr>
          <p:cNvPr id="87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multimodal approach using a combination </a:t>
            </a:r>
            <a:br>
              <a:rPr sz="2200"/>
            </a:br>
            <a:r>
              <a:rPr b="0" lang="en-US" sz="2200" spc="-1" strike="noStrike">
                <a:solidFill>
                  <a:srgbClr val="1a1a1a"/>
                </a:solidFill>
                <a:latin typeface="Open Sans"/>
              </a:rPr>
              <a:t>of drugs may be necessar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bine drugs of different groups and </a:t>
            </a:r>
            <a:br>
              <a:rPr sz="2200"/>
            </a:br>
            <a:r>
              <a:rPr b="0" lang="en-US" sz="2200" spc="-1" strike="noStrike">
                <a:solidFill>
                  <a:srgbClr val="1a1a1a"/>
                </a:solidFill>
                <a:latin typeface="Open Sans"/>
              </a:rPr>
              <a:t>with different mechanism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requently assess how the patient is taking the analgesic medication, the level or degree of pain relief and side effec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with the lowest effective dose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ontinue if side effects are intolerable or if treatment is not helpfu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cost of treatment</a:t>
            </a:r>
            <a:endParaRPr b="0" lang="en-US" sz="2200" spc="-1" strike="noStrike">
              <a:solidFill>
                <a:srgbClr val="1a1a1a"/>
              </a:solidFill>
              <a:latin typeface="Open Sans"/>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Opioids</a:t>
            </a: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ronic opioid therapy remains controversial due to misconceptions, regulatory barriers, and uncertainty about effectiveness / safet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going investigations into potential negative effects on quality of life and endocrine adverse events</a:t>
            </a:r>
            <a:endParaRPr b="0" lang="en-US" sz="2200" spc="-1" strike="noStrike">
              <a:solidFill>
                <a:srgbClr val="1a1a1a"/>
              </a:solidFill>
              <a:latin typeface="Open Sans"/>
            </a:endParaRPr>
          </a:p>
        </p:txBody>
      </p:sp>
      <p:sp>
        <p:nvSpPr>
          <p:cNvPr id="876" name="Text Box 3"/>
          <p:cNvSpPr/>
          <p:nvPr/>
        </p:nvSpPr>
        <p:spPr>
          <a:xfrm>
            <a:off x="1144440" y="4896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Use of Scheduled versus PRN Opioids</a:t>
            </a:r>
            <a:endParaRPr b="0" lang="en-US" sz="3200" spc="-1" strike="noStrike">
              <a:solidFill>
                <a:srgbClr val="333333"/>
              </a:solidFill>
              <a:latin typeface="Open Sans Semibold"/>
            </a:endParaRPr>
          </a:p>
        </p:txBody>
      </p:sp>
      <p:sp>
        <p:nvSpPr>
          <p:cNvPr id="87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unclear whether scheduled around-the-clock opioid therapy is better than PRN dos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 the need for additional rescue doses</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being taken for psychological reasons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increased doses of the long-acting opioid eliminate the need for some of the rescues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valuate the risk / benefit (improvement in function) that the additional doses will produce</a:t>
            </a:r>
            <a:endParaRPr b="0" lang="en-US" sz="2200" spc="-1" strike="noStrike">
              <a:solidFill>
                <a:srgbClr val="1a1a1a"/>
              </a:solidFill>
              <a:latin typeface="Open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ypes of Episodic or Increased Pain</a:t>
            </a:r>
            <a:endParaRPr b="0" lang="en-US" sz="3200" spc="-1" strike="noStrike">
              <a:solidFill>
                <a:srgbClr val="333333"/>
              </a:solidFill>
              <a:latin typeface="Open Sans Semibold"/>
            </a:endParaRPr>
          </a:p>
        </p:txBody>
      </p:sp>
      <p:sp>
        <p:nvSpPr>
          <p:cNvPr id="880"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t>
            </a:r>
            <a:r>
              <a:rPr b="1" lang="en-US" sz="2200" spc="-1" strike="noStrike">
                <a:solidFill>
                  <a:srgbClr val="1a1a1a"/>
                </a:solidFill>
                <a:latin typeface="Open Sans"/>
              </a:rPr>
              <a:t>Breakthrough”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nsitory flare of moderate-to-severe pain occurring in patients with persistent pain otherwise controlled by analgesics (often opioids). May be incident related, due to end-of-dose failure, or idiopath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t>
            </a:r>
            <a:r>
              <a:rPr b="1" lang="en-US" sz="2200" spc="-1" strike="noStrike">
                <a:solidFill>
                  <a:srgbClr val="1a1a1a"/>
                </a:solidFill>
                <a:latin typeface="Open Sans"/>
              </a:rPr>
              <a:t>Flare”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erm used in chronic non-cancer pain to describe an exacerbation of pain that may last days to week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reatment may have to be adjusted, often adding other drugs, in order to control pain and other symptom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reatment Goals</a:t>
            </a:r>
            <a:endParaRPr b="0" lang="en-US" sz="3200" spc="-1" strike="noStrike">
              <a:solidFill>
                <a:srgbClr val="333333"/>
              </a:solidFill>
              <a:latin typeface="Open Sans Semibold"/>
            </a:endParaRPr>
          </a:p>
        </p:txBody>
      </p:sp>
      <p:sp>
        <p:nvSpPr>
          <p:cNvPr id="88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tore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emotional, soci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underlying cause where possibl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rect secondary consequences of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stural deficits, weakness, muscle overu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ladaptive behavior, poor coping </a:t>
            </a:r>
            <a:endParaRPr b="0" lang="en-US" sz="2200" spc="-1" strike="noStrike">
              <a:solidFill>
                <a:srgbClr val="1a1a1a"/>
              </a:solidFill>
              <a:latin typeface="Open Sans"/>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reatment Approach</a:t>
            </a:r>
            <a:endParaRPr b="0" lang="en-US" sz="3200" spc="-1" strike="noStrike">
              <a:solidFill>
                <a:srgbClr val="333333"/>
              </a:solidFill>
              <a:latin typeface="Open Sans Semibold"/>
            </a:endParaRPr>
          </a:p>
        </p:txBody>
      </p:sp>
      <p:sp>
        <p:nvSpPr>
          <p:cNvPr id="88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gether with the patient, set realistic goals </a:t>
            </a:r>
            <a:br>
              <a:rPr sz="2200"/>
            </a:br>
            <a:r>
              <a:rPr b="0" lang="en-US" sz="2200" spc="-1" strike="noStrike">
                <a:solidFill>
                  <a:srgbClr val="1a1a1a"/>
                </a:solidFill>
                <a:latin typeface="Open Sans"/>
              </a:rPr>
              <a:t>about pain contr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rief motivational interview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knowledge feelings (e.g., grief, loss, fru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multimodal approach</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exercise, sleep, nutrition, counsel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lare pla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p:nvPr>
        </p:nvSpPr>
        <p:spPr>
          <a:xfrm>
            <a:off x="777960" y="3335040"/>
            <a:ext cx="760104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Special</a:t>
            </a:r>
            <a:br>
              <a:rPr sz="4600"/>
            </a:br>
            <a:r>
              <a:rPr b="0" lang="en-US" sz="4600" spc="-1" strike="noStrike">
                <a:solidFill>
                  <a:srgbClr val="1a1a1a"/>
                </a:solidFill>
                <a:latin typeface="Open Sans"/>
              </a:rPr>
              <a:t> Management Challenges</a:t>
            </a:r>
            <a:endParaRPr b="0" lang="en-US" sz="4600" spc="-1" strike="noStrike">
              <a:solidFill>
                <a:srgbClr val="1a1a1a"/>
              </a:solidFill>
              <a:latin typeface="Open Sans"/>
            </a:endParaRPr>
          </a:p>
        </p:txBody>
      </p:sp>
      <p:sp>
        <p:nvSpPr>
          <p:cNvPr id="834" name="Subtitle 6"/>
          <p:cNvSpPr/>
          <p:nvPr/>
        </p:nvSpPr>
        <p:spPr>
          <a:xfrm>
            <a:off x="2495520" y="4575240"/>
            <a:ext cx="5337360" cy="493560"/>
          </a:xfrm>
          <a:prstGeom prst="rect">
            <a:avLst/>
          </a:prstGeom>
          <a:noFill/>
          <a:ln w="0">
            <a:noFill/>
          </a:ln>
        </p:spPr>
        <p:style>
          <a:lnRef idx="0"/>
          <a:fillRef idx="0"/>
          <a:effectRef idx="0"/>
          <a:fontRef idx="minor"/>
        </p:style>
        <p:txBody>
          <a:bodyPr wrap="none"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Arial"/>
            </a:endParaRPr>
          </a:p>
        </p:txBody>
      </p:sp>
      <p:sp>
        <p:nvSpPr>
          <p:cNvPr id="835" name="Subtitle 6"/>
          <p:cNvSpPr/>
          <p:nvPr/>
        </p:nvSpPr>
        <p:spPr>
          <a:xfrm>
            <a:off x="2495520" y="5315040"/>
            <a:ext cx="5337360" cy="493560"/>
          </a:xfrm>
          <a:prstGeom prst="rect">
            <a:avLst/>
          </a:prstGeom>
          <a:noFill/>
          <a:ln w="0">
            <a:noFill/>
          </a:ln>
        </p:spPr>
        <p:style>
          <a:lnRef idx="0"/>
          <a:fillRef idx="0"/>
          <a:effectRef idx="0"/>
          <a:fontRef idx="minor"/>
        </p:style>
        <p:txBody>
          <a:bodyPr wrap="none"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99ff"/>
                </a:solidFill>
                <a:latin typeface="Open Sans"/>
              </a:rPr>
              <a:t>Type in name of 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Exercise</a:t>
            </a:r>
            <a:endParaRPr b="0" lang="en-US" sz="3200" spc="-1" strike="noStrike">
              <a:solidFill>
                <a:srgbClr val="333333"/>
              </a:solidFill>
              <a:latin typeface="Open Sans Semibold"/>
            </a:endParaRPr>
          </a:p>
        </p:txBody>
      </p:sp>
      <p:sp>
        <p:nvSpPr>
          <p:cNvPr id="8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are fearful of movement and exerci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s physical functioning, decreases secondary sources of pain, and improves general health </a:t>
            </a:r>
            <a:br>
              <a:rPr sz="2200"/>
            </a:br>
            <a:r>
              <a:rPr b="0" lang="en-US" sz="2200" spc="-1" strike="noStrike">
                <a:solidFill>
                  <a:srgbClr val="1a1a1a"/>
                </a:solidFill>
                <a:latin typeface="Open Sans"/>
              </a:rPr>
              <a:t>and wellbe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 types of exercise each with specific goal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example: strengthen, stretch, preserve range </a:t>
            </a:r>
            <a:br>
              <a:rPr sz="2200"/>
            </a:br>
            <a:r>
              <a:rPr b="0" lang="en-US" sz="2200" spc="-1" strike="noStrike">
                <a:solidFill>
                  <a:srgbClr val="1a1a1a"/>
                </a:solidFill>
                <a:latin typeface="Open Sans"/>
              </a:rPr>
              <a:t>of motion, recondi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commend a consult with a physical therap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ercise and Chronic Pain</a:t>
            </a:r>
            <a:endParaRPr b="0" lang="en-US" sz="3200" spc="-1" strike="noStrike">
              <a:solidFill>
                <a:srgbClr val="333333"/>
              </a:solidFill>
              <a:latin typeface="Open Sans Semibold"/>
            </a:endParaRPr>
          </a:p>
        </p:txBody>
      </p:sp>
      <p:sp>
        <p:nvSpPr>
          <p:cNvPr id="88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Exercise should fix my problem!</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t>
            </a:r>
            <a:br>
              <a:rPr sz="2200"/>
            </a:br>
            <a:r>
              <a:rPr b="0" lang="en-US" sz="2200" spc="-1" strike="noStrike">
                <a:solidFill>
                  <a:srgbClr val="1a1a1a"/>
                </a:solidFill>
                <a:latin typeface="Open Sans"/>
                <a:ea typeface="ＭＳ Ｐゴシック"/>
              </a:rPr>
              <a:t>or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I</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ve tried physical therapy (PT) and it didn</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t help</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t>
            </a:r>
            <a:br>
              <a:rPr sz="2200"/>
            </a:br>
            <a:r>
              <a:rPr b="0" lang="en-US" sz="2200" spc="-1" strike="noStrike">
                <a:solidFill>
                  <a:srgbClr val="1a1a1a"/>
                </a:solidFill>
                <a:latin typeface="Open Sans"/>
                <a:ea typeface="ＭＳ Ｐゴシック"/>
              </a:rPr>
              <a:t>or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Activity makes my pain wor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30 minutes/day of exercise will not overcome 16 hours/day of poor posture and poor body mechanic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titive practice and lifestyle change are crucial</a:t>
            </a:r>
            <a:endParaRPr b="0" lang="en-US" sz="2200" spc="-1" strike="noStrike">
              <a:solidFill>
                <a:srgbClr val="1a1a1a"/>
              </a:solidFill>
              <a:latin typeface="Open Sans"/>
            </a:endParaRPr>
          </a:p>
        </p:txBody>
      </p:sp>
      <p:sp>
        <p:nvSpPr>
          <p:cNvPr id="88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Common Misperceptions</a:t>
            </a:r>
            <a:endParaRPr b="0" lang="en-US" sz="2400" spc="-1" strike="noStrike">
              <a:solidFill>
                <a:srgbClr val="1a1a1a"/>
              </a:solidFill>
              <a:latin typeface="Open Sans"/>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a:t>
            </a:r>
            <a:endParaRPr b="0" lang="en-US" sz="3200" spc="-1" strike="noStrike">
              <a:solidFill>
                <a:srgbClr val="333333"/>
              </a:solidFill>
              <a:latin typeface="Open Sans Semibold"/>
            </a:endParaRPr>
          </a:p>
        </p:txBody>
      </p:sp>
      <p:sp>
        <p:nvSpPr>
          <p:cNvPr id="891"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rt term increase in usual level of pai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mporary, may last hours to days or week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tinct from „breakthrough pain“ </a:t>
            </a:r>
            <a:r>
              <a:rPr b="0" lang="en-US" sz="2200" spc="-1" strike="noStrike">
                <a:solidFill>
                  <a:srgbClr val="ff0000"/>
                </a:solidFill>
                <a:latin typeface="Open Sans"/>
              </a:rPr>
              <a:t>how?</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ok into what triggered the flare</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ress, injury, lack of sleep, exercise, hormonal changes, additional / new patholog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flare pla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ice or heat, increase or decrease activity, distraction, other coping skills </a:t>
            </a:r>
            <a:endParaRPr b="0" lang="en-US" sz="2200" spc="-1" strike="noStrike">
              <a:solidFill>
                <a:srgbClr val="1a1a1a"/>
              </a:solidFill>
              <a:latin typeface="Open Sans"/>
            </a:endParaRPr>
          </a:p>
        </p:txBody>
      </p:sp>
      <p:sp>
        <p:nvSpPr>
          <p:cNvPr id="89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How to Manage Flares</a:t>
            </a:r>
            <a:endParaRPr b="0" lang="en-US" sz="2400" spc="-1" strike="noStrike">
              <a:solidFill>
                <a:srgbClr val="1a1a1a"/>
              </a:solidFill>
              <a:latin typeface="Open Sans"/>
            </a:endParaRPr>
          </a:p>
        </p:txBody>
      </p:sp>
      <p:sp>
        <p:nvSpPr>
          <p:cNvPr id="893" name="Rectangle 5"/>
          <p:cNvSpPr/>
          <p:nvPr/>
        </p:nvSpPr>
        <p:spPr>
          <a:xfrm>
            <a:off x="3614760" y="627120"/>
            <a:ext cx="543888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0000"/>
                </a:solidFill>
                <a:latin typeface="Arial"/>
                <a:ea typeface="Arial"/>
              </a:rPr>
              <a:t>it is not clear what a “flair”is. </a:t>
            </a:r>
            <a:endParaRPr b="0" lang="en-US" sz="1800" spc="-1" strike="noStrike">
              <a:solidFill>
                <a:srgbClr val="1a1a1a"/>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0000"/>
                </a:solidFill>
                <a:latin typeface="Arial"/>
                <a:ea typeface="Arial"/>
              </a:rPr>
              <a:t>Would be good to provide an example</a:t>
            </a:r>
            <a:endParaRPr b="0" lang="en-US" sz="1800" spc="-1" strike="noStrike">
              <a:solidFill>
                <a:srgbClr val="1a1a1a"/>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Treatment Plan</a:t>
            </a:r>
            <a:endParaRPr b="0" lang="en-US" sz="3200" spc="-1" strike="noStrike">
              <a:solidFill>
                <a:srgbClr val="333333"/>
              </a:solidFill>
              <a:latin typeface="Open Sans Semibold"/>
            </a:endParaRPr>
          </a:p>
        </p:txBody>
      </p:sp>
      <p:sp>
        <p:nvSpPr>
          <p:cNvPr id="895" name=""/>
          <p:cNvSpPr txBox="1"/>
          <p:nvPr/>
        </p:nvSpPr>
        <p:spPr>
          <a:xfrm>
            <a:off x="777600" y="1387440"/>
            <a:ext cx="777060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Diagnostic Impress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back pain, acute flare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jor or moderate depression, single episod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bacco abus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Increase Functional Activi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unsel on stretching, strengthening and endurance exercises, supervised physical therapy if available initiall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 with development of pain coping strategies/skills, brief motivational interview, counselor or health psychologist if availabl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6" name="Rectangle 4"/>
          <p:cNvSpPr/>
          <p:nvPr/>
        </p:nvSpPr>
        <p:spPr>
          <a:xfrm>
            <a:off x="157320" y="1757520"/>
            <a:ext cx="3776400" cy="360"/>
          </a:xfrm>
          <a:prstGeom prst="rect">
            <a:avLst/>
          </a:prstGeom>
          <a:noFill/>
          <a:ln w="0">
            <a:noFill/>
          </a:ln>
        </p:spPr>
        <p:style>
          <a:lnRef idx="0"/>
          <a:fillRef idx="0"/>
          <a:effectRef idx="0"/>
          <a:fontRef idx="minor"/>
        </p:style>
        <p:txBody>
          <a:bodyPr lIns="90360" rIns="90360" tIns="-43920" bIns="-4392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1a"/>
                </a:solidFill>
                <a:latin typeface="Open Sans Semibold"/>
              </a:rPr>
              <a:t>Case continued: Treatment Plan</a:t>
            </a:r>
            <a:endParaRPr b="0" lang="en-US" sz="3200" spc="-1" strike="noStrike">
              <a:solidFill>
                <a:srgbClr val="333333"/>
              </a:solidFill>
              <a:latin typeface="Open Sans Semibold"/>
            </a:endParaRPr>
          </a:p>
        </p:txBody>
      </p:sp>
      <p:sp>
        <p:nvSpPr>
          <p:cNvPr id="898" name=""/>
          <p:cNvSpPr txBox="1"/>
          <p:nvPr/>
        </p:nvSpPr>
        <p:spPr>
          <a:xfrm>
            <a:off x="767880" y="1120320"/>
            <a:ext cx="7812360" cy="493740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Reduce Pain by 25% or mor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 self-increased doses of morphine have not helped to reduce pain or improve function, reduce as previously prescribed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should be made clear that morphine should  not be “self-increased” under any circumstanc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nsider re-introduction of NSAID or paracetamol.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nsider: if they were not effective before, might not improve pain now.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there is a neuropathic component in her LBP, gabapentin or antidepressants could be added to the opioi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ial of tricyclic antidepressant to reduce pain why TCA ?</a:t>
            </a:r>
            <a:endParaRPr b="0" lang="en-US" sz="2000" spc="-1" strike="noStrike">
              <a:solidFill>
                <a:srgbClr val="1a1a1a"/>
              </a:solidFill>
              <a:latin typeface="Open Sans"/>
            </a:endParaRPr>
          </a:p>
        </p:txBody>
      </p:sp>
      <p:sp>
        <p:nvSpPr>
          <p:cNvPr id="899" name="Rectangle 4"/>
          <p:cNvSpPr/>
          <p:nvPr/>
        </p:nvSpPr>
        <p:spPr>
          <a:xfrm>
            <a:off x="838080" y="1676520"/>
            <a:ext cx="8305920" cy="3730680"/>
          </a:xfrm>
          <a:prstGeom prst="rect">
            <a:avLst/>
          </a:prstGeom>
          <a:noFill/>
          <a:ln w="0">
            <a:noFill/>
          </a:ln>
        </p:spPr>
        <p:style>
          <a:lnRef idx="0"/>
          <a:fillRef idx="0"/>
          <a:effectRef idx="0"/>
          <a:fontRef idx="minor"/>
        </p:style>
        <p:txBody>
          <a:bodyPr lIns="274320" rIns="274320" tIns="44280" bIns="442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Treatment Plan</a:t>
            </a:r>
            <a:endParaRPr b="0" lang="en-US" sz="3200" spc="-1" strike="noStrike">
              <a:solidFill>
                <a:srgbClr val="333333"/>
              </a:solidFill>
              <a:latin typeface="Open Sans Semibold"/>
            </a:endParaRPr>
          </a:p>
        </p:txBody>
      </p:sp>
      <p:sp>
        <p:nvSpPr>
          <p:cNvPr id="90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Diminish Psychological/Social Disrupt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ression counselin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anxiety, facilitate sleep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moking cessation counseling</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Reduce Interference with Work</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tempt modification in work flow and body mechanic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ive examples of how to modify “body mechanics”,  e.g. position, bearing, sitting</a:t>
            </a:r>
            <a:r>
              <a:rPr b="0" lang="en-US" sz="2200" spc="-1" strike="noStrike">
                <a:solidFill>
                  <a:srgbClr val="ff0000"/>
                </a:solidFill>
                <a:latin typeface="Open Sans"/>
              </a:rPr>
              <a:t> </a:t>
            </a:r>
            <a:endParaRPr b="0" lang="en-US" sz="2200" spc="-1" strike="noStrike">
              <a:solidFill>
                <a:srgbClr val="1a1a1a"/>
              </a:solidFill>
              <a:latin typeface="Open Sans"/>
            </a:endParaRPr>
          </a:p>
          <a:p>
            <a:pPr>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02" name="Rectangle 4"/>
          <p:cNvSpPr/>
          <p:nvPr/>
        </p:nvSpPr>
        <p:spPr>
          <a:xfrm>
            <a:off x="838080" y="1676520"/>
            <a:ext cx="8305920" cy="3730680"/>
          </a:xfrm>
          <a:prstGeom prst="rect">
            <a:avLst/>
          </a:prstGeom>
          <a:noFill/>
          <a:ln w="0">
            <a:noFill/>
          </a:ln>
        </p:spPr>
        <p:style>
          <a:lnRef idx="0"/>
          <a:fillRef idx="0"/>
          <a:effectRef idx="0"/>
          <a:fontRef idx="minor"/>
        </p:style>
        <p:txBody>
          <a:bodyPr lIns="274320" rIns="274320" tIns="44280" bIns="442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hronic Pain</a:t>
            </a:r>
            <a:endParaRPr b="0" lang="en-US" sz="3200" spc="-1" strike="noStrike">
              <a:solidFill>
                <a:srgbClr val="333333"/>
              </a:solidFill>
              <a:latin typeface="Open Sans Semibold"/>
            </a:endParaRPr>
          </a:p>
        </p:txBody>
      </p:sp>
      <p:sp>
        <p:nvSpPr>
          <p:cNvPr id="904" name=""/>
          <p:cNvSpPr txBox="1"/>
          <p:nvPr/>
        </p:nvSpPr>
        <p:spPr>
          <a:xfrm>
            <a:off x="777600" y="1387440"/>
            <a:ext cx="7584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ronic pain is a complex biopsychosocial condition that differs widely from the symptom of acute pain</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multidimensional assessment is essential to establish a pain diagnosis to guide the treatment pla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hronic Pain</a:t>
            </a:r>
            <a:endParaRPr b="0" lang="en-US" sz="3200" spc="-1" strike="noStrike">
              <a:solidFill>
                <a:srgbClr val="333333"/>
              </a:solidFill>
              <a:latin typeface="Open Sans Semibold"/>
            </a:endParaRPr>
          </a:p>
        </p:txBody>
      </p:sp>
      <p:sp>
        <p:nvSpPr>
          <p:cNvPr id="906" name=""/>
          <p:cNvSpPr txBox="1"/>
          <p:nvPr/>
        </p:nvSpPr>
        <p:spPr>
          <a:xfrm>
            <a:off x="777600" y="1387440"/>
            <a:ext cx="7584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goals of chronic pain treatment are to:</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intain or restore function, diminish psychological/social disruption.</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a:t>
            </a:r>
            <a:r>
              <a:rPr b="1" lang="en-US" sz="2400" spc="-1" strike="noStrike">
                <a:solidFill>
                  <a:srgbClr val="1a1a1a"/>
                </a:solidFill>
                <a:latin typeface="Open Sans"/>
              </a:rPr>
              <a:t>only</a:t>
            </a:r>
            <a:r>
              <a:rPr b="0" lang="en-US" sz="2200" spc="-1" strike="noStrike">
                <a:solidFill>
                  <a:srgbClr val="1a1a1a"/>
                </a:solidFill>
                <a:latin typeface="Open Sans"/>
              </a:rPr>
              <a:t> partial pain relief can be achiev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disease management model that aims to empower the patient to self-manage pain with less reliance on medications and on invasive procedures seeking cure is likely best suited.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ake Home Messages</a:t>
            </a:r>
            <a:endParaRPr b="0" lang="en-US" sz="3200" spc="-1" strike="noStrike">
              <a:solidFill>
                <a:srgbClr val="333333"/>
              </a:solidFill>
              <a:latin typeface="Open Sans Semibold"/>
            </a:endParaRPr>
          </a:p>
        </p:txBody>
      </p:sp>
      <p:sp>
        <p:nvSpPr>
          <p:cNvPr id="90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complex changes in the brain and nervous system that lead to dysfunc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be difficult to detect underlying mechanis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ment and treatment address al dimensions of the biopsychosocial experie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 relief and cure often unrealist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is aimed on empowering the patient to manage the pain using positive coping skills, lifestyle changes and judicious use of medications.</a:t>
            </a:r>
            <a:endParaRPr b="0" lang="en-US" sz="2200" spc="-1" strike="noStrike">
              <a:solidFill>
                <a:srgbClr val="1a1a1a"/>
              </a:solidFill>
              <a:latin typeface="Open Sans"/>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 Definition</a:t>
            </a:r>
            <a:endParaRPr b="0" lang="en-US" sz="3200" spc="-1" strike="noStrike">
              <a:solidFill>
                <a:srgbClr val="333333"/>
              </a:solidFill>
              <a:latin typeface="Open Sans Semibold"/>
            </a:endParaRPr>
          </a:p>
        </p:txBody>
      </p:sp>
      <p:sp>
        <p:nvSpPr>
          <p:cNvPr id="910"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ubstance dependence is defined a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When an individual persists in use of alcohol or other drugs despite problems related to use of the substance, substance dependence may be diagnosed. Compulsive and repetitive use may result in tolerance to the effect of the drug and withdrawal symptoms when use is reduced or stopped. </a:t>
            </a:r>
            <a:endParaRPr b="0" lang="en-US" sz="2400" spc="-1" strike="noStrike">
              <a:solidFill>
                <a:srgbClr val="1a1a1a"/>
              </a:solidFill>
              <a:latin typeface="Open Sans"/>
            </a:endParaRPr>
          </a:p>
        </p:txBody>
      </p:sp>
      <p:sp>
        <p:nvSpPr>
          <p:cNvPr id="911" name="Rectangle 4"/>
          <p:cNvSpPr/>
          <p:nvPr/>
        </p:nvSpPr>
        <p:spPr>
          <a:xfrm>
            <a:off x="1918800" y="5838840"/>
            <a:ext cx="659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rPr>
              <a:t>Diagnostic and Statistical Manual of Mental Disorders (DSM-IV)</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iopsychosocial Dimensions of Pain</a:t>
            </a:r>
            <a:endParaRPr b="0" lang="en-US" sz="3200" spc="-1" strike="noStrike">
              <a:solidFill>
                <a:srgbClr val="333333"/>
              </a:solidFill>
              <a:latin typeface="Open Sans Semibold"/>
            </a:endParaRPr>
          </a:p>
        </p:txBody>
      </p:sp>
      <p:sp>
        <p:nvSpPr>
          <p:cNvPr id="837" name="Oval 3"/>
          <p:cNvSpPr/>
          <p:nvPr/>
        </p:nvSpPr>
        <p:spPr>
          <a:xfrm>
            <a:off x="2498760" y="3807000"/>
            <a:ext cx="2531880" cy="2530440"/>
          </a:xfrm>
          <a:prstGeom prst="ellipse">
            <a:avLst/>
          </a:prstGeom>
          <a:noFill/>
          <a:ln w="28440">
            <a:solidFill>
              <a:srgbClr val="008bcb"/>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38" name="Oval 4"/>
          <p:cNvSpPr/>
          <p:nvPr/>
        </p:nvSpPr>
        <p:spPr>
          <a:xfrm>
            <a:off x="1795320" y="2398680"/>
            <a:ext cx="3938760" cy="3938760"/>
          </a:xfrm>
          <a:prstGeom prst="ellipse">
            <a:avLst/>
          </a:prstGeom>
          <a:noFill/>
          <a:ln w="28440">
            <a:solidFill>
              <a:srgbClr val="008bcb"/>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39" name="Text Box 6"/>
          <p:cNvSpPr/>
          <p:nvPr/>
        </p:nvSpPr>
        <p:spPr>
          <a:xfrm>
            <a:off x="2440080" y="4518000"/>
            <a:ext cx="2647800" cy="157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1a1a1a"/>
                </a:solidFill>
                <a:latin typeface="Open Sans"/>
                <a:ea typeface="Arial"/>
              </a:rPr>
              <a:t>Neurophysiological changes +</a:t>
            </a:r>
            <a:endParaRPr b="0" lang="en-US" sz="1600" spc="-1" strike="noStrike">
              <a:solidFill>
                <a:srgbClr val="1a1a1a"/>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1a1a1a"/>
                </a:solidFill>
                <a:latin typeface="Open Sans"/>
                <a:ea typeface="Arial"/>
              </a:rPr>
              <a:t>Physiological dysfunction</a:t>
            </a:r>
            <a:endParaRPr b="0" lang="en-US" sz="1600" spc="-1" strike="noStrike">
              <a:solidFill>
                <a:srgbClr val="1a1a1a"/>
              </a:solidFill>
              <a:latin typeface="Arial"/>
            </a:endParaRPr>
          </a:p>
        </p:txBody>
      </p:sp>
      <p:sp>
        <p:nvSpPr>
          <p:cNvPr id="840" name="Text Box 8"/>
          <p:cNvSpPr/>
          <p:nvPr/>
        </p:nvSpPr>
        <p:spPr>
          <a:xfrm>
            <a:off x="2217600" y="1827360"/>
            <a:ext cx="3094200" cy="78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ea typeface="Arial"/>
              </a:rPr>
              <a:t>Culture, Social interactions, Sick role</a:t>
            </a:r>
            <a:endParaRPr b="0" lang="en-US" sz="1600" spc="-1" strike="noStrike">
              <a:solidFill>
                <a:srgbClr val="1a1a1a"/>
              </a:solidFill>
              <a:latin typeface="Arial"/>
            </a:endParaRPr>
          </a:p>
        </p:txBody>
      </p:sp>
      <p:sp>
        <p:nvSpPr>
          <p:cNvPr id="841" name="Text Box 9"/>
          <p:cNvSpPr/>
          <p:nvPr/>
        </p:nvSpPr>
        <p:spPr>
          <a:xfrm>
            <a:off x="6270480" y="4983120"/>
            <a:ext cx="1719360" cy="542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BIOLOGICAL</a:t>
            </a:r>
            <a:endParaRPr b="0" lang="en-US" sz="1600" spc="-1" strike="noStrike">
              <a:solidFill>
                <a:srgbClr val="1a1a1a"/>
              </a:solidFill>
              <a:latin typeface="Arial"/>
            </a:endParaRPr>
          </a:p>
        </p:txBody>
      </p:sp>
      <p:sp>
        <p:nvSpPr>
          <p:cNvPr id="842" name="Text Box 10"/>
          <p:cNvSpPr/>
          <p:nvPr/>
        </p:nvSpPr>
        <p:spPr>
          <a:xfrm>
            <a:off x="6270480" y="3325680"/>
            <a:ext cx="2017800" cy="5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PSYCHOLOGICAL</a:t>
            </a:r>
            <a:endParaRPr b="0" lang="en-US" sz="1600" spc="-1" strike="noStrike">
              <a:solidFill>
                <a:srgbClr val="1a1a1a"/>
              </a:solidFill>
              <a:latin typeface="Arial"/>
            </a:endParaRPr>
          </a:p>
        </p:txBody>
      </p:sp>
      <p:sp>
        <p:nvSpPr>
          <p:cNvPr id="843" name="Text Box 11"/>
          <p:cNvSpPr/>
          <p:nvPr/>
        </p:nvSpPr>
        <p:spPr>
          <a:xfrm>
            <a:off x="6270480" y="1954080"/>
            <a:ext cx="1614600" cy="471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SOCIAL</a:t>
            </a:r>
            <a:endParaRPr b="0" lang="en-US" sz="1600" spc="-1" strike="noStrike">
              <a:solidFill>
                <a:srgbClr val="1a1a1a"/>
              </a:solidFill>
              <a:latin typeface="Arial"/>
            </a:endParaRPr>
          </a:p>
        </p:txBody>
      </p:sp>
      <p:sp>
        <p:nvSpPr>
          <p:cNvPr id="844" name="Oval 23"/>
          <p:cNvSpPr/>
          <p:nvPr/>
        </p:nvSpPr>
        <p:spPr>
          <a:xfrm>
            <a:off x="1300320" y="1409760"/>
            <a:ext cx="4927320" cy="4927680"/>
          </a:xfrm>
          <a:prstGeom prst="ellipse">
            <a:avLst/>
          </a:prstGeom>
          <a:noFill/>
          <a:ln w="28440">
            <a:solidFill>
              <a:srgbClr val="008bc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 – A Neurobiological Disease</a:t>
            </a:r>
            <a:endParaRPr b="0" lang="en-US" sz="3200" spc="-1" strike="noStrike">
              <a:solidFill>
                <a:srgbClr val="333333"/>
              </a:solidFill>
              <a:latin typeface="Open Sans Semibold"/>
            </a:endParaRPr>
          </a:p>
        </p:txBody>
      </p:sp>
      <p:sp>
        <p:nvSpPr>
          <p:cNvPr id="913" name=""/>
          <p:cNvSpPr txBox="1"/>
          <p:nvPr/>
        </p:nvSpPr>
        <p:spPr>
          <a:xfrm>
            <a:off x="777960" y="128376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the brain</a:t>
            </a:r>
            <a:r>
              <a:rPr b="0" lang="ja-JP"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reward (limbic) cent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area of the brain that is associated with the affective responses to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dopamine and neurochemical stimulation </a:t>
            </a:r>
            <a:r>
              <a:rPr b="0" lang="en-US" sz="2200" spc="-1" strike="noStrike">
                <a:solidFill>
                  <a:srgbClr val="ff0000"/>
                </a:solidFill>
                <a:latin typeface="Open Sans"/>
              </a:rPr>
              <a:t>What does it mea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sceptible individuals may have an alteration of the limbic or related system</a:t>
            </a:r>
            <a:r>
              <a:rPr b="0" lang="en-US" sz="2200" spc="-1" strike="noStrike">
                <a:solidFill>
                  <a:srgbClr val="ff0000"/>
                </a:solidFill>
                <a:latin typeface="Open Sans"/>
              </a:rPr>
              <a:t>s</a:t>
            </a:r>
            <a:r>
              <a:rPr b="0" lang="en-US" sz="2200" spc="-1" strike="noStrike">
                <a:solidFill>
                  <a:srgbClr val="1a1a1a"/>
                </a:solidFill>
                <a:latin typeface="Open Sans"/>
              </a:rPr>
              <a:t> that causes sensitization to the reinforcing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enetic factors account for about half the likelihood of developing 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valence of Substance Abuse in Pain Management Populations</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alence studies reveal variable results based on non-uniform definitions of abuse and 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ed as less prevalent in cancer pain (0% - 5%)</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e prevalent in the chronic non-cancer pain population (0% - 50% depending on criteria used) </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
            </a:r>
            <a:r>
              <a:rPr b="0" i="1" lang="en-US" sz="2200" spc="-1" strike="noStrike">
                <a:solidFill>
                  <a:srgbClr val="1a1a1a"/>
                </a:solidFill>
                <a:latin typeface="Open Sans"/>
              </a:rPr>
              <a:t>confirm figures</a:t>
            </a:r>
            <a:r>
              <a:rPr b="0" lang="en-US" sz="2200" spc="-1" strike="noStrike">
                <a:solidFill>
                  <a:srgbClr val="1a1a1a"/>
                </a:solidFill>
                <a:latin typeface="Open Sans"/>
              </a:rPr>
              <a: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valence of Substance Abuse in Pain Management Populations</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factors include high opioid doses, concomitant use of alcohol or benzodiazepines, younger age, previous depression and low educational leve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ar and misunderstanding about addiction are barriers to adequate pain manage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a:t>
            </a: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depende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lera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tolerance</a:t>
            </a:r>
            <a:endParaRPr b="0" lang="en-US" sz="2200" spc="-1" strike="noStrike">
              <a:solidFill>
                <a:srgbClr val="1a1a1a"/>
              </a:solidFill>
              <a:latin typeface="Open Sans"/>
            </a:endParaRPr>
          </a:p>
          <a:p>
            <a:pPr marL="287280" indent="-28728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re NOT  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ysical Dependence - Definition</a:t>
            </a:r>
            <a:endParaRPr b="0" lang="en-US" sz="3200" spc="-1" strike="noStrike">
              <a:solidFill>
                <a:srgbClr val="333333"/>
              </a:solidFill>
              <a:latin typeface="Open Sans Semibold"/>
            </a:endParaRPr>
          </a:p>
        </p:txBody>
      </p:sp>
      <p:sp>
        <p:nvSpPr>
          <p:cNvPr id="9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Physical dependence is a state of physical adaptation that is manifested by a drug-class specific withdrawal syndrome. Withdrawal can be induced by abrupt cessation or rapid dose reduction decreasing blood level of the drug, and/or administration of an antagonist.</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ence is an expected manifestation of opioid admini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ifested by withdrawal sympto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2" name="Text Box 4"/>
          <p:cNvSpPr/>
          <p:nvPr/>
        </p:nvSpPr>
        <p:spPr>
          <a:xfrm>
            <a:off x="212760" y="6361200"/>
            <a:ext cx="8778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olerance - Definition</a:t>
            </a:r>
            <a:endParaRPr b="0" lang="en-US" sz="3200" spc="-1" strike="noStrike">
              <a:solidFill>
                <a:srgbClr val="333333"/>
              </a:solidFill>
              <a:latin typeface="Open Sans Semibold"/>
            </a:endParaRPr>
          </a:p>
        </p:txBody>
      </p:sp>
      <p:sp>
        <p:nvSpPr>
          <p:cNvPr id="924"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Tolerance is a state of adaptation in which exposure to a drug induces changes that result in diminution of one or more of the drug</a:t>
            </a:r>
            <a:r>
              <a:rPr b="0" lang="ja-JP"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effects over time.</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lerance is an expected manifestation during opioid administrati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 tolerance is manifested by a decrease in analgesia that requires increasing the doses to obtain a similar effec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cancer pain, the most common need for increased dosage is disease progression, rather than drug tolerance</a:t>
            </a:r>
            <a:r>
              <a:rPr b="0" lang="en-US" sz="2200" spc="-1" strike="noStrike">
                <a:solidFill>
                  <a:srgbClr val="ff0000"/>
                </a:solidFill>
                <a:latin typeface="Open Sans"/>
              </a:rPr>
              <a:t> </a:t>
            </a:r>
            <a:endParaRPr b="0" lang="en-US" sz="2200" spc="-1" strike="noStrike">
              <a:solidFill>
                <a:srgbClr val="1a1a1a"/>
              </a:solidFill>
              <a:latin typeface="Open Sans"/>
            </a:endParaRPr>
          </a:p>
        </p:txBody>
      </p:sp>
      <p:sp>
        <p:nvSpPr>
          <p:cNvPr id="925" name="Rectangle 3"/>
          <p:cNvSpPr/>
          <p:nvPr/>
        </p:nvSpPr>
        <p:spPr>
          <a:xfrm>
            <a:off x="5224320" y="270000"/>
            <a:ext cx="3529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These concepts may be difficult to grasp unless an example is given e.g.  opioid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eudoaddiction is</a:t>
            </a:r>
            <a:endParaRPr b="0" lang="en-US" sz="3200" spc="-1" strike="noStrike">
              <a:solidFill>
                <a:srgbClr val="333333"/>
              </a:solidFill>
              <a:latin typeface="Open Sans Semibold"/>
            </a:endParaRPr>
          </a:p>
        </p:txBody>
      </p:sp>
      <p:sp>
        <p:nvSpPr>
          <p:cNvPr id="927" name=""/>
          <p:cNvSpPr txBox="1"/>
          <p:nvPr/>
        </p:nvSpPr>
        <p:spPr>
          <a:xfrm>
            <a:off x="768240" y="2046240"/>
            <a:ext cx="7586640" cy="34401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ifested by behaviors similar to addic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ck watch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cus on obtaining the dru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llicit behaviors can occ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ociated with the under-treatment of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s resolve when the pain is effectively manag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8" name="Rectangle 4"/>
          <p:cNvSpPr/>
          <p:nvPr/>
        </p:nvSpPr>
        <p:spPr>
          <a:xfrm>
            <a:off x="1773720" y="5875200"/>
            <a:ext cx="6850800" cy="551160"/>
          </a:xfrm>
          <a:prstGeom prst="rect">
            <a:avLst/>
          </a:prstGeom>
          <a:noFill/>
          <a:ln w="0">
            <a:noFill/>
          </a:ln>
        </p:spPr>
        <p:style>
          <a:lnRef idx="0"/>
          <a:fillRef idx="0"/>
          <a:effectRef idx="0"/>
          <a:fontRef idx="minor"/>
        </p:style>
        <p:txBody>
          <a:bodyPr wrap="none" lIns="90000" rIns="90000" tIns="46800" bIns="46800" anchor="t">
            <a:spAutoFit/>
          </a:bodyPr>
          <a:p>
            <a:pPr>
              <a:lnSpc>
                <a:spcPts val="36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se behaviours could be included in the description of addiction</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eudotolerance</a:t>
            </a:r>
            <a:endParaRPr b="0" lang="en-US" sz="3200" spc="-1" strike="noStrike">
              <a:solidFill>
                <a:srgbClr val="333333"/>
              </a:solidFill>
              <a:latin typeface="Open Sans Semibold"/>
            </a:endParaRPr>
          </a:p>
        </p:txBody>
      </p:sp>
      <p:sp>
        <p:nvSpPr>
          <p:cNvPr id="93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ed to increase the dose that is not related to the development of tolerance such a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ease progress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w disea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activit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ck of drug adherenc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 ? For opioids, addicted subjects are tolerant</a:t>
            </a:r>
            <a:endParaRPr b="0" lang="en-US" sz="2200" spc="-1" strike="noStrike">
              <a:solidFill>
                <a:srgbClr val="1a1a1a"/>
              </a:solidFill>
              <a:latin typeface="Open Sans"/>
            </a:endParaRPr>
          </a:p>
        </p:txBody>
      </p:sp>
      <p:sp>
        <p:nvSpPr>
          <p:cNvPr id="931" name="Text Box 4"/>
          <p:cNvSpPr/>
          <p:nvPr/>
        </p:nvSpPr>
        <p:spPr>
          <a:xfrm>
            <a:off x="6665760" y="6140520"/>
            <a:ext cx="207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rPr>
              <a:t>slide not clear</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cautions</a:t>
            </a:r>
            <a:endParaRPr b="0" lang="en-US" sz="3200" spc="-1" strike="noStrike">
              <a:solidFill>
                <a:srgbClr val="333333"/>
              </a:solidFill>
              <a:latin typeface="Open Sans Semibold"/>
            </a:endParaRPr>
          </a:p>
        </p:txBody>
      </p:sp>
      <p:sp>
        <p:nvSpPr>
          <p:cNvPr id="93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ial diagnosi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creen for risk of addiction (simple clinical interview /or screening to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btain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informed consent</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explain risk and benefi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treatment agreement (verbal or written / sign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gularly assess the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Four As</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nalgesia, Activity, Adverse Reactions, and Aberrant Behavio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odically re-assess the pain diagnosis and co-morbid conditions including addictive behavio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our “As”: Patient Level Outcomes</a:t>
            </a:r>
            <a:endParaRPr b="0" lang="en-US" sz="3200" spc="-1" strike="noStrike">
              <a:solidFill>
                <a:srgbClr val="333333"/>
              </a:solidFill>
              <a:latin typeface="Open Sans Semibold"/>
            </a:endParaRPr>
          </a:p>
        </p:txBody>
      </p:sp>
      <p:sp>
        <p:nvSpPr>
          <p:cNvPr id="935" name=""/>
          <p:cNvSpPr txBox="1"/>
          <p:nvPr/>
        </p:nvSpPr>
        <p:spPr>
          <a:xfrm>
            <a:off x="777960" y="2152800"/>
            <a:ext cx="8161200" cy="402264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algesia</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 analgesia or Comfor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tivities of Daily Living</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and emotional function should be preserved or improved</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ven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uld be minimized</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errant Drug-taking Behavior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tential aberrant drug-taking behaviors should be monitored</a:t>
            </a:r>
            <a:endParaRPr b="0" lang="en-US" sz="2200" spc="-1" strike="noStrike">
              <a:solidFill>
                <a:srgbClr val="1a1a1a"/>
              </a:solidFill>
              <a:latin typeface="Open Sans"/>
            </a:endParaRPr>
          </a:p>
        </p:txBody>
      </p:sp>
      <p:sp>
        <p:nvSpPr>
          <p:cNvPr id="936" name="PlaceHolder 2"/>
          <p:cNvSpPr>
            <a:spLocks noGrp="1"/>
          </p:cNvSpPr>
          <p:nvPr>
            <p:ph/>
          </p:nvPr>
        </p:nvSpPr>
        <p:spPr>
          <a:xfrm>
            <a:off x="768240" y="11124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Used to Guide Treatment Goals and to Reassess </a:t>
            </a:r>
            <a:br>
              <a:rPr sz="2400"/>
            </a:br>
            <a:r>
              <a:rPr b="0" i="1" lang="en-US" sz="2400" spc="-1" strike="noStrike">
                <a:solidFill>
                  <a:srgbClr val="333333"/>
                </a:solidFill>
                <a:latin typeface="Open Sans Semibold"/>
                <a:ea typeface="Open Sans Light"/>
              </a:rPr>
              <a:t>for Development of Addictio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Definition</a:t>
            </a:r>
            <a:endParaRPr b="0" lang="en-US" sz="3200" spc="-1" strike="noStrike">
              <a:solidFill>
                <a:srgbClr val="333333"/>
              </a:solidFill>
              <a:latin typeface="Open Sans Semibold"/>
            </a:endParaRPr>
          </a:p>
        </p:txBody>
      </p:sp>
      <p:sp>
        <p:nvSpPr>
          <p:cNvPr id="84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international standard defini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ersists &gt; 90 days ( &gt; 3-6 month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Often unrelated to time of initial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oor/no response to treatments effective </a:t>
            </a:r>
            <a:br>
              <a:rPr sz="2400"/>
            </a:br>
            <a:r>
              <a:rPr b="0" lang="en-GB" sz="2400" spc="-1" strike="noStrike">
                <a:solidFill>
                  <a:srgbClr val="1a1a1a"/>
                </a:solidFill>
                <a:latin typeface="Open Sans"/>
              </a:rPr>
              <a:t>in acute pa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mplex structural and functional changes in the nervous syste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enerally purposeless, often irreversibl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Estimated incidence worldwide 20–25%</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errant Behaviors observed during the development of addiction</a:t>
            </a:r>
            <a:endParaRPr b="0" lang="en-US" sz="3200" spc="-1" strike="noStrike">
              <a:solidFill>
                <a:srgbClr val="333333"/>
              </a:solidFill>
              <a:latin typeface="Open Sans Semibold"/>
            </a:endParaRPr>
          </a:p>
        </p:txBody>
      </p:sp>
      <p:sp>
        <p:nvSpPr>
          <p:cNvPr id="938" name=""/>
          <p:cNvSpPr txBox="1"/>
          <p:nvPr/>
        </p:nvSpPr>
        <p:spPr>
          <a:xfrm>
            <a:off x="777960" y="1747800"/>
            <a:ext cx="7586640" cy="3983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hoarding  when symptoms are improv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quiring drugs from multiple medical sour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ggressive demands for a higher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approved use of a drug to treat a symptom, e.g. use of an opioid to treat anxie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sanctioned dose escalation (1-2x)</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ing psychic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questing specific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ore Obvious Aberrant Behaviors</a:t>
            </a:r>
            <a:endParaRPr b="0" lang="en-US" sz="3200" spc="-1" strike="noStrike">
              <a:solidFill>
                <a:srgbClr val="333333"/>
              </a:solidFill>
              <a:latin typeface="Open Sans Semibold"/>
            </a:endParaRPr>
          </a:p>
        </p:txBody>
      </p:sp>
      <p:sp>
        <p:nvSpPr>
          <p:cNvPr id="94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lling prescription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gery of prescrip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urrent illicit drug 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ple prescription/medication los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going unsanctioned dose escal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aling and borrowing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btaining prescription drugs from nonmedical sour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ated resistance to changing drug type – inflexib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errancy Risk Factors</a:t>
            </a:r>
            <a:endParaRPr b="0" lang="en-US" sz="3200" spc="-1" strike="noStrike">
              <a:solidFill>
                <a:srgbClr val="333333"/>
              </a:solidFill>
              <a:latin typeface="Open Sans Semibold"/>
            </a:endParaRPr>
          </a:p>
        </p:txBody>
      </p:sp>
      <p:sp>
        <p:nvSpPr>
          <p:cNvPr id="94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mily history of substance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gal proble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or alcohol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ntal health proble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ple motor vehicle accide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igarette smok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wer adverse events </a:t>
            </a:r>
            <a:r>
              <a:rPr b="0" lang="en-US" sz="2200" spc="-1" strike="noStrike">
                <a:solidFill>
                  <a:srgbClr val="ff0000"/>
                </a:solidFill>
                <a:latin typeface="Open Sans"/>
              </a:rPr>
              <a:t>of wh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gh opioid do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tial Diagnosis When Aberrant Behavior is Observed</a:t>
            </a:r>
            <a:endParaRPr b="0" lang="en-US" sz="3200" spc="-1" strike="noStrike">
              <a:solidFill>
                <a:srgbClr val="333333"/>
              </a:solidFill>
              <a:latin typeface="Open Sans Semibold"/>
            </a:endParaRPr>
          </a:p>
        </p:txBody>
      </p:sp>
      <p:sp>
        <p:nvSpPr>
          <p:cNvPr id="94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iatric patholog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cephalopath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sonality disord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ression, anxiety, high level of str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emical coping (give exampl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riminal intent (give exampl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ake Home Message: Pain Management in Patients with Risk of Substance Abuse</a:t>
            </a:r>
            <a:endParaRPr b="0" lang="en-US" sz="3200" spc="-1" strike="noStrike">
              <a:solidFill>
                <a:srgbClr val="333333"/>
              </a:solidFill>
              <a:latin typeface="Open Sans Semibold"/>
            </a:endParaRPr>
          </a:p>
        </p:txBody>
      </p:sp>
      <p:sp>
        <p:nvSpPr>
          <p:cNvPr id="946" name=""/>
          <p:cNvSpPr txBox="1"/>
          <p:nvPr/>
        </p:nvSpPr>
        <p:spPr>
          <a:xfrm>
            <a:off x="777960" y="1387440"/>
            <a:ext cx="7586640" cy="4937040"/>
          </a:xfrm>
          <a:prstGeom prst="rect">
            <a:avLst/>
          </a:prstGeom>
          <a:noFill/>
          <a:ln w="0">
            <a:noFill/>
          </a:ln>
        </p:spPr>
        <p:txBody>
          <a:bodyPr lIns="0" rIns="0" tIns="0" bIns="0" anchor="t">
            <a:normAutofit fontScale="94000"/>
          </a:bodyPr>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ar of addiction hinders pain management in all patient populations</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screening should must be performed at onset of opioid therapy and aberrant behaviors repeatedly assessed</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oals of pain management similar to thoose for chronic pain &amp;include improving analgesia &amp; activities of daily living, and controlling adverse events and aberrant behaviors</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addiction also present tolerance, and usually require higher doses of opioids to obtain effective analgesia</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Substance Use</a:t>
            </a:r>
            <a:endParaRPr b="0" lang="en-US" sz="3200" spc="-1" strike="noStrike">
              <a:solidFill>
                <a:srgbClr val="333333"/>
              </a:solidFill>
              <a:latin typeface="Open Sans Semibold"/>
            </a:endParaRPr>
          </a:p>
        </p:txBody>
      </p:sp>
      <p:sp>
        <p:nvSpPr>
          <p:cNvPr id="948" name=""/>
          <p:cNvSpPr txBox="1"/>
          <p:nvPr/>
        </p:nvSpPr>
        <p:spPr>
          <a:xfrm>
            <a:off x="777960" y="1387080"/>
            <a:ext cx="7586640" cy="27068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onates exposed to heroin, prescription opioids, methadone, or buprenorphine during pregnancy are monitored closely for symptoms and signs of neonatal withdrawal (neonatal abstinence syndrome)</a:t>
            </a:r>
            <a:endParaRPr b="0" lang="en-US" sz="2200" spc="-1" strike="noStrike">
              <a:solidFill>
                <a:srgbClr val="1a1a1a"/>
              </a:solidFill>
              <a:latin typeface="Open Sans"/>
            </a:endParaRPr>
          </a:p>
        </p:txBody>
      </p:sp>
      <p:sp>
        <p:nvSpPr>
          <p:cNvPr id="949" name="Rectangle 4"/>
          <p:cNvSpPr/>
          <p:nvPr/>
        </p:nvSpPr>
        <p:spPr>
          <a:xfrm>
            <a:off x="2600640" y="5237280"/>
            <a:ext cx="5282640" cy="551160"/>
          </a:xfrm>
          <a:prstGeom prst="rect">
            <a:avLst/>
          </a:prstGeom>
          <a:noFill/>
          <a:ln w="0">
            <a:noFill/>
          </a:ln>
        </p:spPr>
        <p:style>
          <a:lnRef idx="0"/>
          <a:fillRef idx="0"/>
          <a:effectRef idx="0"/>
          <a:fontRef idx="minor"/>
        </p:style>
        <p:txBody>
          <a:bodyPr wrap="none" lIns="90000" rIns="90000" tIns="46800" bIns="46800" anchor="t">
            <a:spAutoFit/>
          </a:bodyPr>
          <a:p>
            <a:pPr>
              <a:lnSpc>
                <a:spcPts val="36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 signs and symptoms of neonatal withdrawal</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Chronic Pain</a:t>
            </a:r>
            <a:endParaRPr b="0" lang="en-US" sz="3200" spc="-1" strike="noStrike">
              <a:solidFill>
                <a:srgbClr val="333333"/>
              </a:solidFill>
              <a:latin typeface="Open Sans Semibold"/>
            </a:endParaRPr>
          </a:p>
        </p:txBody>
      </p:sp>
      <p:sp>
        <p:nvSpPr>
          <p:cNvPr id="95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most all drugs cross the placent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re possible, non-pharmacologic treatment options should be considered fir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Exercise reduce back and pelvic pain during pregn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racetamol and codeine are generally considered saf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AIDs and aspirin should be used with caution in the last trimester of pregnancy and avoided after the 32nd wee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Chronic Pain</a:t>
            </a:r>
            <a:endParaRPr b="0" lang="en-US" sz="3200" spc="-1" strike="noStrike">
              <a:solidFill>
                <a:srgbClr val="333333"/>
              </a:solidFill>
              <a:latin typeface="Open Sans Semibold"/>
            </a:endParaRPr>
          </a:p>
        </p:txBody>
      </p:sp>
      <p:sp>
        <p:nvSpPr>
          <p:cNvPr id="95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adjuvant anticonvulsants are associated with birth de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 best, chronic opioids provide mild to moderate analgesia and are associated with lower Apgar scores (and potential newborn withdraw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xplain why this is so, analgesia is dose-dependent regardless if a patient is pregnant or not.</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ctation and Analgesics</a:t>
            </a:r>
            <a:endParaRPr b="0" lang="en-US" sz="3200" spc="-1" strike="noStrike">
              <a:solidFill>
                <a:srgbClr val="333333"/>
              </a:solidFill>
              <a:latin typeface="Open Sans Semibold"/>
            </a:endParaRPr>
          </a:p>
        </p:txBody>
      </p:sp>
      <p:sp>
        <p:nvSpPr>
          <p:cNvPr id="95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choice of drugs should be based on transfer in human milk and likely effects on the inf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lowest possible effective maternal dose of analgesic is recommen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reastfeeding is best avoided at times of peak drug concentration in milk, and the infant should be observed for effects of medication transferred in breast mil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ctating women having surgery are generally advised to discard their milk for 24hours after opera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ctation and Analgesics</a:t>
            </a:r>
            <a:endParaRPr b="0" lang="en-US" sz="3200" spc="-1" strike="noStrike">
              <a:solidFill>
                <a:srgbClr val="333333"/>
              </a:solidFill>
              <a:latin typeface="Open Sans Semibold"/>
            </a:endParaRPr>
          </a:p>
        </p:txBody>
      </p:sp>
      <p:sp>
        <p:nvSpPr>
          <p:cNvPr id="957" name=""/>
          <p:cNvSpPr txBox="1"/>
          <p:nvPr/>
        </p:nvSpPr>
        <p:spPr>
          <a:xfrm>
            <a:off x="777960" y="1387440"/>
            <a:ext cx="7586640" cy="36943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l anaesthetics, paracetamol and several non-selective NSAIDs, in particular ibuprofen, are considered safe in the lactating pati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and fentanyl are considered safe in the lactating patient and are preferred over pethid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SRIs and TCAs can be</a:t>
            </a:r>
            <a:r>
              <a:rPr b="0" lang="en-US" sz="2200" spc="-1" strike="noStrike">
                <a:solidFill>
                  <a:srgbClr val="ff0000"/>
                </a:solidFill>
                <a:latin typeface="Open Sans"/>
              </a:rPr>
              <a:t> </a:t>
            </a:r>
            <a:r>
              <a:rPr b="0" lang="en-US" sz="2200" spc="-1" strike="noStrike">
                <a:solidFill>
                  <a:srgbClr val="1a1a1a"/>
                </a:solidFill>
                <a:latin typeface="Open Sans"/>
              </a:rPr>
              <a:t>used in postnatal depres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e specific information on use of anticonvulsants </a:t>
            </a:r>
            <a:r>
              <a:rPr b="0" lang="en-US" sz="2200" spc="-1" strike="noStrike">
                <a:solidFill>
                  <a:srgbClr val="ff0000"/>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Definition</a:t>
            </a:r>
            <a:endParaRPr b="0" lang="en-US" sz="3200" spc="-1" strike="noStrike">
              <a:solidFill>
                <a:srgbClr val="333333"/>
              </a:solidFill>
              <a:latin typeface="Open Sans Semibold"/>
            </a:endParaRPr>
          </a:p>
        </p:txBody>
      </p:sp>
      <p:sp>
        <p:nvSpPr>
          <p:cNvPr id="848"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 pain is a disease </a:t>
            </a:r>
            <a:br>
              <a:rPr sz="2200"/>
            </a:br>
            <a:br>
              <a:rPr sz="2200"/>
            </a:br>
            <a:r>
              <a:rPr b="1" lang="en-US" sz="2200" spc="-1" strike="noStrike">
                <a:solidFill>
                  <a:srgbClr val="1a1a1a"/>
                </a:solidFill>
                <a:latin typeface="Open Sans"/>
              </a:rPr>
              <a:t>Acute pain is a symptom</a:t>
            </a:r>
            <a:br>
              <a:rPr sz="2200"/>
            </a:b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0" lang="en-GB" sz="2200" spc="-1" strike="noStrike">
                <a:solidFill>
                  <a:srgbClr val="1a1a1a"/>
                </a:solidFill>
                <a:latin typeface="Open Sans"/>
                <a:ea typeface="Arial"/>
              </a:rPr>
              <a:t>Poor understanding of the mechanisms implicated in the </a:t>
            </a:r>
            <a:r>
              <a:rPr b="0" i="1" lang="en-GB" sz="2200" spc="-1" strike="noStrike" u="sng">
                <a:solidFill>
                  <a:srgbClr val="1a1a1a"/>
                </a:solidFill>
                <a:uFillTx/>
                <a:latin typeface="Open Sans"/>
                <a:ea typeface="Arial"/>
              </a:rPr>
              <a:t>transition</a:t>
            </a:r>
            <a:r>
              <a:rPr b="0" lang="en-GB" sz="2200" spc="-1" strike="noStrike" u="sng">
                <a:solidFill>
                  <a:srgbClr val="1a1a1a"/>
                </a:solidFill>
                <a:uFillTx/>
                <a:latin typeface="Open Sans"/>
                <a:ea typeface="Arial"/>
              </a:rPr>
              <a:t> </a:t>
            </a:r>
            <a:r>
              <a:rPr b="0" lang="en-GB" sz="2200" spc="-1" strike="noStrike">
                <a:solidFill>
                  <a:srgbClr val="1a1a1a"/>
                </a:solidFill>
                <a:latin typeface="Open Sans"/>
                <a:ea typeface="Arial"/>
              </a:rPr>
              <a:t>from acute injury to chronic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in Older Adults</a:t>
            </a:r>
            <a:endParaRPr b="0" lang="en-US" sz="3200" spc="-1" strike="noStrike">
              <a:solidFill>
                <a:srgbClr val="333333"/>
              </a:solidFill>
              <a:latin typeface="Open Sans Semibold"/>
            </a:endParaRPr>
          </a:p>
        </p:txBody>
      </p:sp>
      <p:sp>
        <p:nvSpPr>
          <p:cNvPr id="95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ging affects every aspect of health</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chanism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mptom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adapt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fficac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rvival</a:t>
            </a:r>
            <a:endParaRPr b="0" lang="en-US" sz="2200" spc="-1" strike="noStrike">
              <a:solidFill>
                <a:srgbClr val="1a1a1a"/>
              </a:solidFill>
              <a:latin typeface="Open San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6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isconceptions about Pain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63" name=""/>
          <p:cNvSpPr txBox="1"/>
          <p:nvPr/>
        </p:nvSpPr>
        <p:spPr>
          <a:xfrm>
            <a:off x="449280" y="1647360"/>
            <a:ext cx="4965840" cy="4024440"/>
          </a:xfrm>
          <a:prstGeom prst="rect">
            <a:avLst/>
          </a:prstGeom>
          <a:noFill/>
          <a:ln w="0">
            <a:noFill/>
          </a:ln>
        </p:spPr>
        <p:txBody>
          <a:bodyPr lIns="0" rIns="0" tIns="0" bIns="0" anchor="t">
            <a:normAutofit fontScale="89000"/>
          </a:bodyPr>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 natural outcome of aging</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perception or sensitivity decreases</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elderly cannot use pain rating scales</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are too dangerous in the elderly</a:t>
            </a:r>
            <a:endParaRPr b="0" lang="en-US" sz="2200" spc="-1" strike="noStrike">
              <a:solidFill>
                <a:srgbClr val="1a1a1a"/>
              </a:solidFill>
              <a:latin typeface="Open Sans"/>
            </a:endParaRPr>
          </a:p>
        </p:txBody>
      </p:sp>
      <p:pic>
        <p:nvPicPr>
          <p:cNvPr id="964" name="Picture 9" descr="alzheimer"/>
          <p:cNvPicPr/>
          <p:nvPr/>
        </p:nvPicPr>
        <p:blipFill>
          <a:blip r:embed="rId1"/>
          <a:stretch/>
        </p:blipFill>
        <p:spPr>
          <a:xfrm>
            <a:off x="5743440" y="1647720"/>
            <a:ext cx="2610000" cy="339912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Prevalence with Age</a:t>
            </a:r>
            <a:endParaRPr b="0" lang="en-US" sz="3200" spc="-1" strike="noStrike">
              <a:solidFill>
                <a:srgbClr val="333333"/>
              </a:solidFill>
              <a:latin typeface="Open Sans Semibold"/>
            </a:endParaRPr>
          </a:p>
        </p:txBody>
      </p:sp>
      <p:sp>
        <p:nvSpPr>
          <p:cNvPr id="96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asurement in the community is difficult and may be underestim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gional and widespread pain conditions are common in older pers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s of increases, decreases, and no change for musculoskeletal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prevalence of neuropathies with ag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more prevalent in wom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ult of combination of constitutional, lifestyle, mechanical and psychosocial factors</a:t>
            </a:r>
            <a:endParaRPr b="0" lang="en-US" sz="2200" spc="-1" strike="noStrike">
              <a:solidFill>
                <a:srgbClr val="1a1a1a"/>
              </a:solidFill>
              <a:latin typeface="Open Sans"/>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mmon Conditions Causing Pain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68" name=""/>
          <p:cNvSpPr txBox="1"/>
          <p:nvPr/>
        </p:nvSpPr>
        <p:spPr>
          <a:xfrm>
            <a:off x="777960" y="1387440"/>
            <a:ext cx="3690720" cy="4937040"/>
          </a:xfrm>
          <a:prstGeom prst="rect">
            <a:avLst/>
          </a:prstGeom>
          <a:noFill/>
          <a:ln w="0">
            <a:noFill/>
          </a:ln>
        </p:spPr>
        <p:txBody>
          <a:bodyPr lIns="0" rIns="0" tIns="0" bIns="0" anchor="t">
            <a:normAutofit fontScale="59000"/>
          </a:bodyPr>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back pain from facet </a:t>
            </a:r>
            <a:br>
              <a:rPr sz="2200"/>
            </a:br>
            <a:r>
              <a:rPr b="0" lang="en-US" sz="2200" spc="-1" strike="noStrike">
                <a:solidFill>
                  <a:srgbClr val="1a1a1a"/>
                </a:solidFill>
                <a:latin typeface="Open Sans"/>
              </a:rPr>
              <a:t>joint arthritis and </a:t>
            </a:r>
            <a:br>
              <a:rPr sz="2200"/>
            </a:br>
            <a:r>
              <a:rPr b="0" lang="en-US" sz="2200" spc="-1" strike="noStrike">
                <a:solidFill>
                  <a:srgbClr val="1a1a1a"/>
                </a:solidFill>
                <a:latin typeface="Open Sans"/>
              </a:rPr>
              <a:t>spondylos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arthrit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poros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ious bone fracture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lymyalgia rheumatica</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get</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disease</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pheral neuropathies</a:t>
            </a:r>
            <a:endParaRPr b="0" lang="en-US" sz="2200" spc="-1" strike="noStrike">
              <a:solidFill>
                <a:srgbClr val="1a1a1a"/>
              </a:solidFill>
              <a:latin typeface="Open Sans"/>
            </a:endParaRPr>
          </a:p>
        </p:txBody>
      </p:sp>
      <p:sp>
        <p:nvSpPr>
          <p:cNvPr id="969" name=""/>
          <p:cNvSpPr txBox="1"/>
          <p:nvPr/>
        </p:nvSpPr>
        <p:spPr>
          <a:xfrm>
            <a:off x="4678200" y="1387440"/>
            <a:ext cx="3686400" cy="4937040"/>
          </a:xfrm>
          <a:prstGeom prst="rect">
            <a:avLst/>
          </a:prstGeom>
          <a:noFill/>
          <a:ln w="0">
            <a:noFill/>
          </a:ln>
        </p:spPr>
        <p:txBody>
          <a:bodyPr lIns="0" rIns="0" tIns="0" bIns="0" anchor="t">
            <a:normAutofit fontScale="63000"/>
          </a:bodyPr>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a:t>
            </a:r>
            <a:br>
              <a:rPr sz="2200"/>
            </a:br>
            <a:r>
              <a:rPr b="0" lang="en-US" sz="2200" spc="-1" strike="noStrike">
                <a:solidFill>
                  <a:srgbClr val="1a1a1a"/>
                </a:solidFill>
                <a:latin typeface="Open Sans"/>
              </a:rPr>
              <a:t>associated with stroke</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ingles, postherpetic </a:t>
            </a:r>
            <a:br>
              <a:rPr sz="2200"/>
            </a:br>
            <a:r>
              <a:rPr b="0" lang="en-US" sz="2200" spc="-1" strike="noStrike">
                <a:solidFill>
                  <a:srgbClr val="1a1a1a"/>
                </a:solidFill>
                <a:latin typeface="Open Sans"/>
              </a:rPr>
              <a:t>neuralgia</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abetes</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igeminal neuralgia</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utritional neuropathies</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pheral vascular </a:t>
            </a:r>
            <a:br>
              <a:rPr sz="2200"/>
            </a:br>
            <a:r>
              <a:rPr b="0" lang="en-US" sz="2200" spc="-1" strike="noStrike">
                <a:solidFill>
                  <a:srgbClr val="1a1a1a"/>
                </a:solidFill>
                <a:latin typeface="Open Sans"/>
              </a:rPr>
              <a:t>disease</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onary artery disease</a:t>
            </a:r>
            <a:endParaRPr b="0" lang="en-US" sz="2200" spc="-1" strike="noStrike">
              <a:solidFill>
                <a:srgbClr val="1a1a1a"/>
              </a:solidFill>
              <a:latin typeface="Open Sans"/>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768240" y="438120"/>
            <a:ext cx="82900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allenges in Older Adults Reporting Pain </a:t>
            </a:r>
            <a:endParaRPr b="0" lang="en-US" sz="3200" spc="-1" strike="noStrike">
              <a:solidFill>
                <a:srgbClr val="333333"/>
              </a:solidFill>
              <a:latin typeface="Open Sans Semibold"/>
            </a:endParaRPr>
          </a:p>
        </p:txBody>
      </p:sp>
      <p:sp>
        <p:nvSpPr>
          <p:cNvPr id="971" name=""/>
          <p:cNvSpPr txBox="1"/>
          <p:nvPr/>
        </p:nvSpPr>
        <p:spPr>
          <a:xfrm>
            <a:off x="777960" y="1093320"/>
            <a:ext cx="7586640" cy="55897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not use word “pain” but endorse aching, hurting, soreness or other descri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able pain assessment can be obtained in patient with mild to moderate cognitive impairment using standardized pain assessment meas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strong relationship exists between pain and function in the older adul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gnitive function</a:t>
            </a:r>
            <a:endParaRPr b="0" lang="en-US" sz="2200" spc="-1" strike="noStrike">
              <a:solidFill>
                <a:srgbClr val="1a1a1a"/>
              </a:solidFill>
              <a:latin typeface="Open Sans"/>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ge Appropriate Strategies</a:t>
            </a:r>
            <a:endParaRPr b="0" lang="en-US" sz="3200" spc="-1" strike="noStrike">
              <a:solidFill>
                <a:srgbClr val="333333"/>
              </a:solidFill>
              <a:latin typeface="Open Sans Semibold"/>
            </a:endParaRPr>
          </a:p>
        </p:txBody>
      </p:sp>
      <p:sp>
        <p:nvSpPr>
          <p:cNvPr id="97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creen for cognitive impairm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direct query and standard scales (e.g. verbal or visual analogue or descriptor)</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sure understanding</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mplest, clear explanation, use exampl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ive time to grasp task and respon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tition is importa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dify assessment according to</a:t>
            </a:r>
            <a:r>
              <a:rPr b="0" lang="en-US" sz="2200" spc="-1" strike="noStrike">
                <a:solidFill>
                  <a:srgbClr val="ff0000"/>
                </a:solidFill>
                <a:latin typeface="Open Sans"/>
              </a:rPr>
              <a:t> </a:t>
            </a:r>
            <a:r>
              <a:rPr b="0" lang="en-US" sz="2200" spc="-1" strike="noStrike">
                <a:solidFill>
                  <a:srgbClr val="1a1a1a"/>
                </a:solidFill>
                <a:latin typeface="Open Sans"/>
              </a:rPr>
              <a:t>sensory defici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visual cues, large print, adequate ambient light</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liminate distractions and assure aids are in pla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igilance and inquiry into functional changes</a:t>
            </a:r>
            <a:endParaRPr b="0" lang="en-US" sz="2200" spc="-1" strike="noStrike">
              <a:solidFill>
                <a:srgbClr val="1a1a1a"/>
              </a:solidFill>
              <a:latin typeface="Open Sans"/>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ehavioral Pain Assessment </a:t>
            </a:r>
            <a:br>
              <a:rPr sz="3200"/>
            </a:br>
            <a:r>
              <a:rPr b="0" lang="en-US" sz="3200" spc="-1" strike="noStrike">
                <a:solidFill>
                  <a:srgbClr val="1a1a1a"/>
                </a:solidFill>
                <a:latin typeface="Open Sans Semibold"/>
              </a:rPr>
              <a:t>in the elderly</a:t>
            </a:r>
            <a:endParaRPr b="0" lang="en-US" sz="3200" spc="-1" strike="noStrike">
              <a:solidFill>
                <a:srgbClr val="333333"/>
              </a:solidFill>
              <a:latin typeface="Open Sans Semibold"/>
            </a:endParaRPr>
          </a:p>
        </p:txBody>
      </p:sp>
      <p:sp>
        <p:nvSpPr>
          <p:cNvPr id="975"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ological indicators (changes in heart rate, blood pressure, respiratory rate), are not reliable or sensitive for discriminating pain from other sources of distr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mon validated pain behavio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 Vocalizations (in words and not in wor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cial express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dy language (movement or immobilit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interpersonal interactions or routines</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ehavioral Pain Assessment </a:t>
            </a:r>
            <a:br>
              <a:rPr sz="3200"/>
            </a:br>
            <a:r>
              <a:rPr b="0" lang="en-US" sz="3200" spc="-1" strike="noStrike">
                <a:solidFill>
                  <a:srgbClr val="1a1a1a"/>
                </a:solidFill>
                <a:latin typeface="Open Sans Semibold"/>
              </a:rPr>
              <a:t>in the elderly</a:t>
            </a:r>
            <a:endParaRPr b="0" lang="en-US" sz="3200" spc="-1" strike="noStrike">
              <a:solidFill>
                <a:srgbClr val="333333"/>
              </a:solidFill>
              <a:latin typeface="Open Sans Semibold"/>
            </a:endParaRPr>
          </a:p>
        </p:txBody>
      </p:sp>
      <p:sp>
        <p:nvSpPr>
          <p:cNvPr id="977"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behavioral assessment tools at rest and movement or during known painful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al scores do not equate pain intens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complete list of behavioral scales se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ttp://prc.coh.org/PAIN-NOA.ht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7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kinetic Considerations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8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bsorp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istribu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otein bind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tabolis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xcre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nd result is higher peak levels and longer duration of action (delayed clearance and higher incidence of side effect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lder Adults and Analgesics</a:t>
            </a:r>
            <a:endParaRPr b="0" lang="en-US" sz="3200" spc="-1" strike="noStrike">
              <a:solidFill>
                <a:srgbClr val="333333"/>
              </a:solidFill>
              <a:latin typeface="Open Sans Semibold"/>
            </a:endParaRPr>
          </a:p>
        </p:txBody>
      </p:sp>
      <p:sp>
        <p:nvSpPr>
          <p:cNvPr id="98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NSAIDs: more likely to suffer adverse gastric, renal and CV side effects, and also be more likely to develop cognitive dysfuncti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require less opioid than younger patients to achieve the same degree of pain relief though large inter-patient variability still exis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more prone to side effects including sedation, confusion, orthostatic hypotension, dry mouth, constipation, urinary retention and gait disturbances which may increase the risk of fall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CG abnormalities may be a contraindication</a:t>
            </a:r>
            <a:endParaRPr b="0" lang="en-US" sz="22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ces: Acute versus Chronic</a:t>
            </a:r>
            <a:endParaRPr b="0" lang="en-US" sz="3200" spc="-1" strike="noStrike">
              <a:solidFill>
                <a:srgbClr val="333333"/>
              </a:solidFill>
              <a:latin typeface="Open Sans Semibold"/>
            </a:endParaRPr>
          </a:p>
        </p:txBody>
      </p:sp>
      <p:sp>
        <p:nvSpPr>
          <p:cNvPr id="850"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u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mple assessment(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idimensional tool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ually responds to analgesics and/or treatment of the </a:t>
            </a:r>
            <a:br>
              <a:rPr sz="2200"/>
            </a:br>
            <a:r>
              <a:rPr b="0" lang="en-US" sz="2200" spc="-1" strike="noStrike">
                <a:solidFill>
                  <a:srgbClr val="1a1a1a"/>
                </a:solidFill>
                <a:latin typeface="Open Sans"/>
              </a:rPr>
              <a:t>underlying caus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resolves spontaneously</a:t>
            </a:r>
            <a:endParaRPr b="0" lang="en-US" sz="2200" spc="-1" strike="noStrike">
              <a:solidFill>
                <a:srgbClr val="1a1a1a"/>
              </a:solidFill>
              <a:latin typeface="Open Sans"/>
            </a:endParaRPr>
          </a:p>
        </p:txBody>
      </p:sp>
      <p:sp>
        <p:nvSpPr>
          <p:cNvPr id="851"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x assessment(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dimensional tool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lying causes may be difficult to identify or isola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refractory to analgesic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never resolv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lder Adults and Analgesics</a:t>
            </a:r>
            <a:endParaRPr b="0" lang="en-US" sz="3200" spc="-1" strike="noStrike">
              <a:solidFill>
                <a:srgbClr val="333333"/>
              </a:solidFill>
              <a:latin typeface="Open Sans Semibold"/>
            </a:endParaRPr>
          </a:p>
        </p:txBody>
      </p:sp>
      <p:sp>
        <p:nvSpPr>
          <p:cNvPr id="9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convulsants: gabapentin and topiramate may be less likely to result in advers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interactions with routine medication</a:t>
            </a:r>
            <a:endParaRPr b="0" lang="en-US" sz="2200" spc="-1" strike="noStrike">
              <a:solidFill>
                <a:srgbClr val="1a1a1a"/>
              </a:solidFill>
              <a:latin typeface="Open Sans"/>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Open Sans Semibold"/>
              </a:rPr>
              <a:t>Non-pharmacologic Interventions – older adults</a:t>
            </a:r>
            <a:endParaRPr b="0" lang="en-US" sz="2800" spc="-1" strike="noStrike">
              <a:solidFill>
                <a:srgbClr val="333333"/>
              </a:solidFill>
              <a:latin typeface="Open Sans Semibold"/>
            </a:endParaRPr>
          </a:p>
        </p:txBody>
      </p:sp>
      <p:sp>
        <p:nvSpPr>
          <p:cNvPr id="98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istraction-TV, music, storytell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laxation-music, touch, warmth</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ld/Heat on the affected site.</a:t>
            </a:r>
            <a:r>
              <a:rPr b="0" lang="en-US" sz="2400" spc="-1" strike="noStrike">
                <a:solidFill>
                  <a:srgbClr val="ff0000"/>
                </a:solidFill>
                <a:latin typeface="Open Sans"/>
              </a:rPr>
              <a:t>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e cautious not to damage sk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positioning-body align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vement/exercise:  glider activ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nsory stimulation: pet therapy, garden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gnitive therapy-reminiscing, reading, visiting </a:t>
            </a:r>
            <a:endParaRPr b="0" lang="en-US" sz="2400" spc="-1" strike="noStrike">
              <a:solidFill>
                <a:srgbClr val="1a1a1a"/>
              </a:solidFill>
              <a:latin typeface="Open Sans"/>
            </a:endParaRPr>
          </a:p>
        </p:txBody>
      </p:sp>
      <p:sp>
        <p:nvSpPr>
          <p:cNvPr id="988" name="Rectangle 3"/>
          <p:cNvSpPr/>
          <p:nvPr/>
        </p:nvSpPr>
        <p:spPr>
          <a:xfrm>
            <a:off x="2944800" y="6186600"/>
            <a:ext cx="59436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a1a1a"/>
                </a:solidFill>
                <a:latin typeface="Open Sans"/>
              </a:rPr>
              <a:t>McDonald &amp; Sterling, 1998; Kovach et al., 1999</a:t>
            </a:r>
            <a:endParaRPr b="0" lang="en-US" sz="1600" spc="-1" strike="noStrike">
              <a:solidFill>
                <a:srgbClr val="1a1a1a"/>
              </a:solidFill>
              <a:latin typeface="Arial"/>
            </a:endParaRPr>
          </a:p>
        </p:txBody>
      </p:sp>
      <p:pic>
        <p:nvPicPr>
          <p:cNvPr id="989" name="Picture 5" descr=""/>
          <p:cNvPicPr/>
          <p:nvPr/>
        </p:nvPicPr>
        <p:blipFill>
          <a:blip r:embed="rId1"/>
          <a:stretch/>
        </p:blipFill>
        <p:spPr>
          <a:xfrm>
            <a:off x="6280200" y="2629080"/>
            <a:ext cx="1270080" cy="160164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ake Home Messages: Older Adults</a:t>
            </a:r>
            <a:endParaRPr b="0" lang="en-US" sz="3200" spc="-1" strike="noStrike">
              <a:solidFill>
                <a:srgbClr val="333333"/>
              </a:solidFill>
              <a:latin typeface="Open Sans Semibold"/>
            </a:endParaRPr>
          </a:p>
        </p:txBody>
      </p:sp>
      <p:sp>
        <p:nvSpPr>
          <p:cNvPr id="991" name=""/>
          <p:cNvSpPr txBox="1"/>
          <p:nvPr/>
        </p:nvSpPr>
        <p:spPr>
          <a:xfrm>
            <a:off x="777960" y="1387440"/>
            <a:ext cx="7586640" cy="23716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lder adults with cognitive impairment are more likely to be under tre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age related decreases in analgesic requirements, though inter-patient variability exis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93" name="PlaceHolder 2"/>
          <p:cNvSpPr>
            <a:spLocks noGrp="1"/>
          </p:cNvSpPr>
          <p:nvPr>
            <p:ph/>
          </p:nvPr>
        </p:nvSpPr>
        <p:spPr>
          <a:xfrm>
            <a:off x="766800" y="1807920"/>
            <a:ext cx="7161120" cy="2284200"/>
          </a:xfrm>
          <a:prstGeom prst="rect">
            <a:avLst/>
          </a:prstGeom>
          <a:noFill/>
          <a:ln w="0">
            <a:noFill/>
          </a:ln>
        </p:spPr>
        <p:txBody>
          <a:bodyPr lIns="0" rIns="0" tIns="0" bIns="0" anchor="t">
            <a:normAutofit fontScale="96000"/>
          </a:bodyPr>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ＭＳ Ｐゴシック"/>
              </a:rPr>
              <a:t>Debra Gordon, RN, DNP, FAAN</a:t>
            </a:r>
            <a:endParaRPr b="0" lang="en-US" sz="3600" spc="-1" strike="noStrike">
              <a:solidFill>
                <a:srgbClr val="1a1a1a"/>
              </a:solidFill>
              <a:latin typeface="Open Sans"/>
            </a:endParaRPr>
          </a:p>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a:ea typeface="ＭＳ Ｐゴシック"/>
              </a:rPr>
              <a:t>Seattle, USA</a:t>
            </a:r>
            <a:endParaRPr b="0" lang="en-US" sz="2800" spc="-1" strike="noStrike">
              <a:solidFill>
                <a:srgbClr val="1a1a1a"/>
              </a:solidFill>
              <a:latin typeface="Open Sans"/>
            </a:endParaRPr>
          </a:p>
          <a:p>
            <a:pPr marL="1720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Text Box 8"/>
          <p:cNvSpPr/>
          <p:nvPr/>
        </p:nvSpPr>
        <p:spPr>
          <a:xfrm>
            <a:off x="380880" y="91440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1a1a1a"/>
              </a:solidFill>
              <a:latin typeface="Arial"/>
            </a:endParaRPr>
          </a:p>
        </p:txBody>
      </p:sp>
      <p:sp>
        <p:nvSpPr>
          <p:cNvPr id="995" name="Rectangle 10"/>
          <p:cNvSpPr/>
          <p:nvPr/>
        </p:nvSpPr>
        <p:spPr>
          <a:xfrm>
            <a:off x="609480" y="30492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1a1a1a"/>
              </a:solidFill>
              <a:latin typeface="Arial"/>
            </a:endParaRPr>
          </a:p>
        </p:txBody>
      </p:sp>
      <p:graphicFrame>
        <p:nvGraphicFramePr>
          <p:cNvPr id="996" name=""/>
          <p:cNvGraphicFramePr/>
          <p:nvPr/>
        </p:nvGraphicFramePr>
        <p:xfrm>
          <a:off x="479520" y="1407960"/>
          <a:ext cx="8435880" cy="4907160"/>
        </p:xfrm>
        <a:graphic>
          <a:graphicData uri="http://schemas.openxmlformats.org/drawingml/2006/table">
            <a:tbl>
              <a:tblPr/>
              <a:tblGrid>
                <a:gridCol w="4626000"/>
                <a:gridCol w="3809880"/>
              </a:tblGrid>
              <a:tr h="4057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Special Management Challenges: Chronic pain, addiction and dependence, old age and dementia, obstetrics and lactatio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Rectangle 2"/>
          <p:cNvSpPr/>
          <p:nvPr/>
        </p:nvSpPr>
        <p:spPr>
          <a:xfrm>
            <a:off x="766800" y="439560"/>
            <a:ext cx="758664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1a1a1a"/>
              </a:solidFill>
              <a:latin typeface="Arial"/>
            </a:endParaRPr>
          </a:p>
        </p:txBody>
      </p:sp>
      <p:pic>
        <p:nvPicPr>
          <p:cNvPr id="998" name="Picture 6" descr=""/>
          <p:cNvPicPr/>
          <p:nvPr/>
        </p:nvPicPr>
        <p:blipFill>
          <a:blip r:embed="rId1"/>
          <a:stretch/>
        </p:blipFill>
        <p:spPr>
          <a:xfrm>
            <a:off x="762120" y="3048120"/>
            <a:ext cx="7954920" cy="3325680"/>
          </a:xfrm>
          <a:prstGeom prst="rect">
            <a:avLst/>
          </a:prstGeom>
          <a:ln w="0">
            <a:noFill/>
          </a:ln>
        </p:spPr>
      </p:pic>
      <p:sp>
        <p:nvSpPr>
          <p:cNvPr id="999" name="Rectangle 4"/>
          <p:cNvSpPr/>
          <p:nvPr/>
        </p:nvSpPr>
        <p:spPr>
          <a:xfrm>
            <a:off x="689400" y="19890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ssessment</a:t>
            </a:r>
            <a:endParaRPr b="0" lang="en-US" sz="3200" spc="-1" strike="noStrike">
              <a:solidFill>
                <a:srgbClr val="333333"/>
              </a:solidFill>
              <a:latin typeface="Open Sans Semibold"/>
            </a:endParaRPr>
          </a:p>
        </p:txBody>
      </p:sp>
      <p:sp>
        <p:nvSpPr>
          <p:cNvPr id="85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sence of abnormal findings on exploration cannot rule out pain and does not mean normal physiolog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vital signs and behavior are unrelia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 multiple dimensions of pain experience with emphasis on function and moo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tablish a pain diagnosis when possible, and determine the type of pain and contributing facto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Study</a:t>
            </a:r>
            <a:endParaRPr b="0" lang="en-US" sz="3200" spc="-1" strike="noStrike">
              <a:solidFill>
                <a:srgbClr val="333333"/>
              </a:solidFill>
              <a:latin typeface="Open Sans Semibold"/>
            </a:endParaRPr>
          </a:p>
        </p:txBody>
      </p:sp>
      <p:sp>
        <p:nvSpPr>
          <p:cNvPr id="85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5 year old black fema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story of low back pain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all her adult life</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cribed as continuous, severe, localized, and interfering with her ability to wor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relevant findings on physical exam and imag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ed with increasing doses of opioid therapy for </a:t>
            </a:r>
            <a:br>
              <a:rPr sz="2200"/>
            </a:br>
            <a:r>
              <a:rPr b="0" lang="en-US" sz="2200" spc="-1" strike="noStrike">
                <a:solidFill>
                  <a:srgbClr val="1a1a1a"/>
                </a:solidFill>
                <a:latin typeface="Open Sans"/>
              </a:rPr>
              <a:t>the past 2 yea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lined to try an antidepress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questing an increase dose of morphine</a:t>
            </a:r>
            <a:endParaRPr b="0" lang="en-US" sz="2200" spc="-1" strike="noStrike">
              <a:solidFill>
                <a:srgbClr val="1a1a1a"/>
              </a:solidFill>
              <a:latin typeface="Open Sans"/>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TextBox 4"/>
          <p:cNvSpPr/>
          <p:nvPr/>
        </p:nvSpPr>
        <p:spPr>
          <a:xfrm>
            <a:off x="6961320" y="708120"/>
            <a:ext cx="13604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ssessment</a:t>
            </a:r>
            <a:endParaRPr b="0" lang="en-US" sz="3200" spc="-1" strike="noStrike">
              <a:solidFill>
                <a:srgbClr val="333333"/>
              </a:solidFill>
              <a:latin typeface="Open Sans Semibold"/>
            </a:endParaRPr>
          </a:p>
        </p:txBody>
      </p:sp>
      <p:pic>
        <p:nvPicPr>
          <p:cNvPr id="858" name="Content Placeholder 4" descr=""/>
          <p:cNvPicPr/>
          <p:nvPr/>
        </p:nvPicPr>
        <p:blipFill>
          <a:blip r:embed="rId1"/>
          <a:stretch/>
        </p:blipFill>
        <p:spPr>
          <a:xfrm>
            <a:off x="255600" y="1268280"/>
            <a:ext cx="4633920" cy="4573800"/>
          </a:xfrm>
          <a:prstGeom prst="rect">
            <a:avLst/>
          </a:prstGeom>
          <a:ln w="0">
            <a:noFill/>
          </a:ln>
        </p:spPr>
      </p:pic>
      <p:sp>
        <p:nvSpPr>
          <p:cNvPr id="859" name=""/>
          <p:cNvSpPr txBox="1"/>
          <p:nvPr/>
        </p:nvSpPr>
        <p:spPr>
          <a:xfrm>
            <a:off x="4677840" y="1387440"/>
            <a:ext cx="399276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A body diagram colored by the patient may be helpful to determine location(s) and assess </a:t>
            </a:r>
            <a:r>
              <a:rPr b="0" i="1" lang="en-US" sz="2200" spc="-1" strike="noStrike">
                <a:solidFill>
                  <a:srgbClr val="1a1a1a"/>
                </a:solidFill>
                <a:latin typeface="Open Sans"/>
                <a:ea typeface="ＭＳ Ｐゴシック"/>
              </a:rPr>
              <a:t>quality</a:t>
            </a:r>
            <a:r>
              <a:rPr b="0" lang="en-US" sz="2200" spc="-1" strike="noStrike">
                <a:solidFill>
                  <a:srgbClr val="1a1a1a"/>
                </a:solidFill>
                <a:latin typeface="Open Sans"/>
                <a:ea typeface="ＭＳ Ｐゴシック"/>
              </a:rPr>
              <a:t> and type of pain, as well as help establish and adequate treatment pla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860" name="TextBox 1" descr=""/>
          <p:cNvPicPr/>
          <p:nvPr/>
        </p:nvPicPr>
        <p:blipFill>
          <a:blip r:embed="rId2"/>
          <a:stretch/>
        </p:blipFill>
        <p:spPr>
          <a:xfrm>
            <a:off x="390600" y="5681520"/>
            <a:ext cx="5261040" cy="97488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1T19:01:55Z</dcterms:created>
  <dc:creator>Debra Gordon</dc:creator>
  <dc:description/>
  <dc:language>en-US</dc:language>
  <cp:lastModifiedBy>ruth</cp:lastModifiedBy>
  <dcterms:modified xsi:type="dcterms:W3CDTF">2015-06-15T09:34:40Z</dcterms:modified>
  <cp:revision>404</cp:revision>
  <dc:subject/>
  <dc:title>PowerPoint Presentation</dc:title>
</cp:coreProperties>
</file>